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7929-B310-409C-9E40-6398995D0E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477D-B73B-4F75-A57F-B66E6745E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BE4-FF36-4C01-A6B5-63398149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FD2-6645-4AA4-815E-1BCDE708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642-0A51-414C-A7FB-773FD9DC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CA5-8840-425A-A5EE-DA47D580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8911-C13C-4F45-B073-EAE2FABD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0959-89E3-498C-B696-B2E96296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EE64-432D-4B3B-8673-B0C017C3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6C9F-B875-4DFF-B0FF-0EF3773E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3B5B-C54F-46BB-BD28-5E9A1B00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CBAC-3FD4-4E30-8574-4F0EAD9C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85B2-0A8E-4CEE-BE46-84738E44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271-E9B8-4A23-B08B-B9616308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3671-DACC-4B86-8F9C-B75031C1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5206-C1AE-47D7-AFF6-47632D38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C2EA-C6D4-481B-8515-563A092E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AD04-505F-4EC5-945C-AEC4380D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8073-9359-43C7-8631-B3D9A5F3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6BC6-AC60-4BD3-A323-1989EE8B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8FF7-BF21-41A4-B2F6-530D52C7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4ED8-22F6-4507-870E-225725CA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42BDC-549D-4E97-93DF-AC8CF8EA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EA55-0632-44EE-BF6B-56BECE9C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755-6866-4196-9892-544398D8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15BF-3E6B-4AD6-BE59-883C018B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A316-1930-498B-8561-4C1F5BF9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FF71-D5B3-4AC0-886B-FA0E15F1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1AE7-CC93-4446-A038-5EED0B2D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FDC3-50E6-4C31-BBA1-70883A75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8C91-0A23-4D12-912E-B2B9A927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E63E-0AB0-4725-BEFF-E9A49BFF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FEF47-4723-4769-B33D-81172932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4C19F-1BD7-48B1-8224-CE0CFA14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D7FC-2CA6-4377-B8F7-3C2E6D1A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B1E-C135-45B5-B2CF-ACA9EF64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DAC8-E9DF-435F-B303-E608B100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30C4-224C-45B0-BB45-D863EECE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0322-CEE2-483B-BC7E-FBAF364A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72A4C-9C9A-48BD-945D-6FFB7C2B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39F9-F745-4563-924F-C6232C69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BA9B-27BE-44EC-9CBE-0BBFD27A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4F5E0-AE64-452B-91EB-55A283C1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2DB0E-E3E3-446B-B8A0-21D20B65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877A9-78EF-42C0-B42E-FE4ECEAA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C3943-4D5F-410D-AC63-985FE437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81B-1C8D-427F-833F-0BBF8FEA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64215-946B-4025-8863-BF7A358E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02ABD-9774-47FB-B31C-F4484ED6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128CB-3902-4A25-A73E-1935E8F3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52946-6470-42E0-B00A-E532F6FF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D1C47-6115-4F78-84A1-AFDD4F6D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9138B-81E6-425C-B40A-A21CAEA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D5940-51D7-41CE-B4DF-B25EE451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BECD4-651A-4B58-832D-5EBD0DBF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F7421-2D39-4396-954F-2D9068EB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A2E6F-AC5C-4C3B-9073-06EA12AA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B17-D336-4EB7-8D25-60FDC2E1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1499C-5ED9-4106-8579-3BC85263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94C4A-C668-4B1A-A60F-EC340CD4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C07FB-81C1-4982-8B0C-D205413B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721476-0D4F-4228-BC2A-E99F57A2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CE3E1-7364-4356-94E3-8BA0D8BA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E4A6C-151F-4A74-AA1C-2A5E2D9E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BE723-0A5D-4691-8476-083F8758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5DE40-520E-4DEF-9471-2596576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9D794-0F69-4266-A7A0-746BD10A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4807B-6CB4-450E-8F9F-0C6A7EF4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8C0-4EE5-492A-9BF2-A869743E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11F47-B84F-453F-B4E9-E276EC5D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ECA88-5363-4F16-83BB-185B7633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38AD8-06B4-4BE1-B58B-213D9AB5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79659-3E15-43FD-B625-DBDC20F9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5A544-5A97-4DAA-BDA5-3CBBB471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13F04-71DB-42F7-A74D-92743945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D02D3-0070-4F4F-9ECD-CB4CB62A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2D90C-7B15-47F3-8F4E-50F575FF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F0997-4E2A-4BC8-AEF9-804B888E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65CDE-AD1D-49A1-BA51-4225797C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CBA-7310-4B60-8B5F-CE918DEB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399AA-61FF-4B97-BD65-829EEF71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0F81D-96A0-4983-8C7B-80BEC7CF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8DEBF-A3E5-4858-A823-4AFA4D40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A057C-69C8-4386-B9FD-0F1BA35B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B6FC0-7AEF-4EBD-A303-5059F203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EB2-E258-4CBB-9861-D1000E89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4BA8-747D-4F47-8A02-14CC3393E4D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8" descr=""/>
            <p:cNvPicPr/>
            <p:nvPr/>
          </p:nvPicPr>
          <p:blipFill>
            <a:blip r:embed="rId2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1" descr=""/>
            <p:cNvPicPr/>
            <p:nvPr/>
          </p:nvPicPr>
          <p:blipFill>
            <a:blip r:embed="rId3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8D41-1514-4595-BBB9-D389925B5BD9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03" name="Rectangle 12" descr=""/>
            <p:cNvPicPr/>
            <p:nvPr/>
          </p:nvPicPr>
          <p:blipFill>
            <a:blip r:embed="rId2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305C-72DE-4117-BA3B-440FD69E1FA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F6E9-8900-4834-A9E4-15FAB87CEC6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195" name="Rectangle 7" descr=""/>
            <p:cNvPicPr/>
            <p:nvPr/>
          </p:nvPicPr>
          <p:blipFill>
            <a:blip r:embed="rId2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C96B-96FC-49AC-BB5E-122C6378CE42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42" name="Rectangle 9" descr=""/>
            <p:cNvPicPr/>
            <p:nvPr/>
          </p:nvPicPr>
          <p:blipFill>
            <a:blip r:embed="rId2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1090-16E6-4346-B8F9-577746FF5A5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A619-D337-4498-AFB7-CED6A3A5A50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4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15"/>
          <p:cNvSpPr/>
          <p:nvPr/>
        </p:nvSpPr>
        <p:spPr>
          <a:xfrm rot="10800000">
            <a:off x="228600" y="5028480"/>
            <a:ext cx="8686800" cy="1600200"/>
          </a:xfrm>
          <a:prstGeom prst="wedgeRoundRectCallout">
            <a:avLst>
              <a:gd name="adj1" fmla="val -680"/>
              <a:gd name="adj2" fmla="val 88787"/>
              <a:gd name="adj3" fmla="val 1666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К Решению Собрания депутатов Поповкинского сельсовета Дмитриевского района Курской области «О бюджете муниципального образования «Поповкинский  сельсовет» Курского района на 2022 год и на плановый период 2023-2024 годов» №51 от 08.12.2021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0" y="152280"/>
            <a:ext cx="9347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unga"/>
              </a:rPr>
              <a:t>БЮДЖЕТ 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unga"/>
              </a:rPr>
              <a:t>ДЛЯ 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unga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0" y="3573360"/>
            <a:ext cx="929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митриевского 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1143-F1F7-4BE4-8649-19C91150B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"/>
          <p:cNvSpPr/>
          <p:nvPr/>
        </p:nvSpPr>
        <p:spPr>
          <a:xfrm>
            <a:off x="685800" y="201924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форма участия населения в осуществлении местног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само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"/>
          <p:cNvSpPr/>
          <p:nvPr/>
        </p:nvSpPr>
        <p:spPr>
          <a:xfrm>
            <a:off x="444600" y="380880"/>
            <a:ext cx="8381880" cy="838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</a:rPr>
              <a:t>Публичные слушания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9"/>
          <p:cNvSpPr/>
          <p:nvPr/>
        </p:nvSpPr>
        <p:spPr>
          <a:xfrm>
            <a:off x="3848040" y="152388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1" descr="i?id=1ee30bfcfa906dff8767380a7bc64f7d-l&amp;n=13"/>
          <p:cNvPicPr/>
          <p:nvPr/>
        </p:nvPicPr>
        <p:blipFill>
          <a:blip r:embed="rId2"/>
          <a:stretch/>
        </p:blipFill>
        <p:spPr>
          <a:xfrm>
            <a:off x="228600" y="4572000"/>
            <a:ext cx="2971800" cy="1727280"/>
          </a:xfrm>
          <a:prstGeom prst="rect">
            <a:avLst/>
          </a:prstGeom>
          <a:ln w="0">
            <a:noFill/>
          </a:ln>
        </p:spPr>
      </p:pic>
      <p:sp>
        <p:nvSpPr>
          <p:cNvPr id="455" name="AutoShape 11"/>
          <p:cNvSpPr/>
          <p:nvPr/>
        </p:nvSpPr>
        <p:spPr>
          <a:xfrm>
            <a:off x="3276720" y="438156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публичных слушаний – заключ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тором отражаются выраженные позиции ж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йона и рекомендации, сформирова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результатам публичных слушан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1"/>
          <p:cNvSpPr/>
          <p:nvPr/>
        </p:nvSpPr>
        <p:spPr>
          <a:xfrm>
            <a:off x="1333440" y="2781360"/>
            <a:ext cx="640080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бличные слушания организуются и проводя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целью выявления мнения населения по проек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а на очередной финансовый г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 плановый период) и по отчету об исполнении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6345-7AD5-4E84-A4ED-3DD0E67CE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228600" y="1676520"/>
            <a:ext cx="86104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Бюджетном Кодексе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266760" y="2590920"/>
            <a:ext cx="86104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Бюджетном послании Президента РФ Федеральному Собранию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1981080" y="304920"/>
            <a:ext cx="579132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</a:rPr>
              <a:t>Составление проекта бюдже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</a:rPr>
              <a:t>основывается на …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1"/>
          <p:cNvSpPr/>
          <p:nvPr/>
        </p:nvSpPr>
        <p:spPr>
          <a:xfrm>
            <a:off x="266760" y="3276720"/>
            <a:ext cx="86104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ФЗ «Об общих принципах организации местного самоуправления в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1"/>
          <p:cNvSpPr/>
          <p:nvPr/>
        </p:nvSpPr>
        <p:spPr>
          <a:xfrm>
            <a:off x="241200" y="4114800"/>
            <a:ext cx="86868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х направлениях бюджетной и налоговой политики Поповкинского сель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митриевского района Кур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2022 год и на плановый период 2023-2024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1"/>
          <p:cNvSpPr/>
          <p:nvPr/>
        </p:nvSpPr>
        <p:spPr>
          <a:xfrm>
            <a:off x="279360" y="5270400"/>
            <a:ext cx="86868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е социально-экономического развития Поповкинского сельсовета Дмитриевского 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период до 202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149A-FE4C-40D4-A478-125F3216D6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1"/>
          <p:cNvSpPr/>
          <p:nvPr/>
        </p:nvSpPr>
        <p:spPr>
          <a:xfrm>
            <a:off x="406440" y="166212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е роста доходов бюджета Поповкинского сельсовета Дмитриевского района за сч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я эффективности администрирования действующих налоговых платежей и сбор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1"/>
          <p:cNvSpPr/>
          <p:nvPr/>
        </p:nvSpPr>
        <p:spPr>
          <a:xfrm>
            <a:off x="343080" y="2362320"/>
            <a:ext cx="86104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ение работы по вовлечению в налоговый оборот отдельных объек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движимости, в отношении которых налог на имущество исчисляется исходя из кадастровой стоим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1"/>
          <p:cNvSpPr/>
          <p:nvPr/>
        </p:nvSpPr>
        <p:spPr>
          <a:xfrm>
            <a:off x="406440" y="380880"/>
            <a:ext cx="838188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</a:rPr>
              <a:t>Основные направления налоговой политики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/>
          <p:cNvSpPr/>
          <p:nvPr/>
        </p:nvSpPr>
        <p:spPr>
          <a:xfrm>
            <a:off x="330120" y="3048120"/>
            <a:ext cx="86108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ведение мероприятий по повышению эффективности упр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ниципальной собственностью, природными ресурсами Поповкинского сельсовета Дмитриевского рай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1" descr="Kakie_peni_za_neuplatu_transportnogo_naloga__6"/>
          <p:cNvPicPr/>
          <p:nvPr/>
        </p:nvPicPr>
        <p:blipFill>
          <a:blip r:embed="rId2"/>
          <a:stretch/>
        </p:blipFill>
        <p:spPr>
          <a:xfrm>
            <a:off x="2819520" y="4572000"/>
            <a:ext cx="3143160" cy="208584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7" descr="i?id=cfd1d00aa0c64425b58075c9c1b9d05c-l&amp;n=13"/>
          <p:cNvPicPr/>
          <p:nvPr/>
        </p:nvPicPr>
        <p:blipFill>
          <a:blip r:embed="rId3"/>
          <a:stretch/>
        </p:blipFill>
        <p:spPr>
          <a:xfrm>
            <a:off x="457200" y="4495680"/>
            <a:ext cx="1353960" cy="2167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11"/>
          <p:cNvSpPr/>
          <p:nvPr/>
        </p:nvSpPr>
        <p:spPr>
          <a:xfrm>
            <a:off x="343080" y="3581280"/>
            <a:ext cx="861048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ершенствование правовой основы для проведения оцен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йствующих местных налоговых льгот в целях их ежегодного мониторинга и актуал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1" descr="242d2"/>
          <p:cNvPicPr/>
          <p:nvPr/>
        </p:nvPicPr>
        <p:blipFill>
          <a:blip r:embed="rId4"/>
          <a:stretch/>
        </p:blipFill>
        <p:spPr>
          <a:xfrm>
            <a:off x="7315200" y="4572000"/>
            <a:ext cx="149868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05E8-F0DA-43BB-A1FF-A9E6E2A3B0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152280" y="2209680"/>
            <a:ext cx="8763120" cy="228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е долгосрочной сбалансированности и устойчивости бюджетной систем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1"/>
          <p:cNvSpPr/>
          <p:nvPr/>
        </p:nvSpPr>
        <p:spPr>
          <a:xfrm>
            <a:off x="152280" y="2514600"/>
            <a:ext cx="8763120" cy="228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е эффективности функционирования контрактной систем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533520" y="457200"/>
            <a:ext cx="807696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</a:rPr>
              <a:t>Основные направления бюджетной политики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1"/>
          <p:cNvSpPr/>
          <p:nvPr/>
        </p:nvSpPr>
        <p:spPr>
          <a:xfrm>
            <a:off x="152280" y="2819520"/>
            <a:ext cx="8763120" cy="30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блюдение бюджетно-финансовой дисциплины главными распорядителями и получателями бюджетных сред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1"/>
          <p:cNvSpPr/>
          <p:nvPr/>
        </p:nvSpPr>
        <p:spPr>
          <a:xfrm>
            <a:off x="152280" y="320040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ершенствование государственной социальной поддержки граждан на основе приме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ципа нуждаемости и адрес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152280" y="373392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едрение и совершенствование системы ведения реестров расходных обязатель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вных распорядителей средств бюджета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1"/>
          <p:cNvSpPr/>
          <p:nvPr/>
        </p:nvSpPr>
        <p:spPr>
          <a:xfrm>
            <a:off x="152280" y="4267080"/>
            <a:ext cx="876312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ание бюджета Поповкинского сельсовета Дмитриевского района на основе муниципальных програ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остижение поставленных целей, для реализации которых имеются необходимые ресурс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1"/>
          <p:cNvSpPr/>
          <p:nvPr/>
        </p:nvSpPr>
        <p:spPr>
          <a:xfrm>
            <a:off x="152280" y="487692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полнение всех решений в пределах утвержденных предельных объе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ходов на реализацию муниципальных програм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1"/>
          <p:cNvSpPr/>
          <p:nvPr/>
        </p:nvSpPr>
        <p:spPr>
          <a:xfrm>
            <a:off x="152280" y="5410080"/>
            <a:ext cx="8763120" cy="30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единой правовой и методической базы для оказания муниципальных услуг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1"/>
          <p:cNvSpPr/>
          <p:nvPr/>
        </p:nvSpPr>
        <p:spPr>
          <a:xfrm>
            <a:off x="152280" y="5791320"/>
            <a:ext cx="8763120" cy="30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ффективное управление муниципальным долгом Поповкинского сельсовета Дмитриевского рай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1"/>
          <p:cNvSpPr/>
          <p:nvPr/>
        </p:nvSpPr>
        <p:spPr>
          <a:xfrm>
            <a:off x="152280" y="617220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ание «Бюджета для граждан» по проекту бюджета Поповкинского сельсовета и его исполн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оступной для широкого круга заинтересованных пользователей 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44F4-0B84-4B72-A10E-584B83C3E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54160" y="1649520"/>
            <a:ext cx="8762760" cy="228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едрение проектных принципов планир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380880" y="2133720"/>
            <a:ext cx="8763120" cy="228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допущение кредиторской задолженности по заработной плате и социальным выплата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1"/>
          <p:cNvSpPr/>
          <p:nvPr/>
        </p:nvSpPr>
        <p:spPr>
          <a:xfrm>
            <a:off x="419040" y="228600"/>
            <a:ext cx="815364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</a:rPr>
              <a:t>Основные направления бюджетной политики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254160" y="2540160"/>
            <a:ext cx="8762760" cy="533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ведение дальнейшей работы по повышению эффективности предост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 бюджета Поповкинского сельсовета Дмитриевского района межбюджетных трансфертов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1"/>
          <p:cNvSpPr/>
          <p:nvPr/>
        </p:nvSpPr>
        <p:spPr>
          <a:xfrm>
            <a:off x="228600" y="320040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иление внутреннего муниципального финансового контроля в сфере бюджет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оотношений, внутреннего финансового контроля и внутреннего финансового аудита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152280" y="3962520"/>
            <a:ext cx="8763120" cy="685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е открытости и прозрачности информации об управлении финанс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 Дмитриевского района, расширение практики общественного учас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 обсуждении и принятии бюджетных решени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1"/>
          <p:cNvSpPr/>
          <p:nvPr/>
        </p:nvSpPr>
        <p:spPr>
          <a:xfrm>
            <a:off x="152280" y="4724280"/>
            <a:ext cx="86868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ширение механизма инициативного бюджетирования предполагающих участие граждан в определен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боре предметов расходования бюджетных средств, а также последующ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троле за реализацией данных проект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1"/>
          <p:cNvSpPr/>
          <p:nvPr/>
        </p:nvSpPr>
        <p:spPr>
          <a:xfrm>
            <a:off x="152280" y="5562720"/>
            <a:ext cx="8763120" cy="533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е качества планирования бюджета Поповкинского сельсовета Дмитриев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76320" y="-36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1"/>
          <p:cNvSpPr/>
          <p:nvPr/>
        </p:nvSpPr>
        <p:spPr>
          <a:xfrm>
            <a:off x="533520" y="457200"/>
            <a:ext cx="83818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БЮДЖЕТ</a:t>
            </a:r>
            <a:r>
              <a:rPr b="1" lang="en-US" sz="2500" spc="-1" strike="noStrike">
                <a:solidFill>
                  <a:srgbClr val="564b3c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может быть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3"/>
          <p:cNvSpPr/>
          <p:nvPr/>
        </p:nvSpPr>
        <p:spPr>
          <a:xfrm>
            <a:off x="114480" y="345456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евышение доходо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д расходам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(положительный остато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юджет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1"/>
          <p:cNvSpPr/>
          <p:nvPr/>
        </p:nvSpPr>
        <p:spPr>
          <a:xfrm>
            <a:off x="5867280" y="3530520"/>
            <a:ext cx="3276720" cy="11430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Если расходная час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юджета превышает доходную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(отрицательный остато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юджет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1"/>
          <p:cNvSpPr/>
          <p:nvPr/>
        </p:nvSpPr>
        <p:spPr>
          <a:xfrm>
            <a:off x="380880" y="1752480"/>
            <a:ext cx="2210040" cy="1143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ПРОФИЦИТН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1"/>
          <p:cNvSpPr/>
          <p:nvPr/>
        </p:nvSpPr>
        <p:spPr>
          <a:xfrm>
            <a:off x="6705720" y="1752480"/>
            <a:ext cx="2133360" cy="1143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ДЕФИЦИТН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9"/>
          <p:cNvSpPr/>
          <p:nvPr/>
        </p:nvSpPr>
        <p:spPr>
          <a:xfrm>
            <a:off x="1295280" y="287028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7467480" y="28954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1"/>
          <p:cNvSpPr/>
          <p:nvPr/>
        </p:nvSpPr>
        <p:spPr>
          <a:xfrm>
            <a:off x="3124080" y="1752480"/>
            <a:ext cx="2971800" cy="1143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СБАЛАНСИРОВАНН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3619440" y="3505320"/>
            <a:ext cx="1981440" cy="11430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бъем расходо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аве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бъему доход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9"/>
          <p:cNvSpPr/>
          <p:nvPr/>
        </p:nvSpPr>
        <p:spPr>
          <a:xfrm>
            <a:off x="4381560" y="2895480"/>
            <a:ext cx="457200" cy="609840"/>
          </a:xfrm>
          <a:prstGeom prst="downArrow">
            <a:avLst>
              <a:gd name="adj1" fmla="val 50000"/>
              <a:gd name="adj2" fmla="val 54188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54ED-9CDB-4D04-BB1D-B80AE3B550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1"/>
          <p:cNvSpPr/>
          <p:nvPr/>
        </p:nvSpPr>
        <p:spPr>
          <a:xfrm>
            <a:off x="1066680" y="36576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8" descr="деньги (1)"/>
          <p:cNvPicPr/>
          <p:nvPr/>
        </p:nvPicPr>
        <p:blipFill>
          <a:blip r:embed="rId2"/>
          <a:stretch/>
        </p:blipFill>
        <p:spPr>
          <a:xfrm>
            <a:off x="228600" y="5334120"/>
            <a:ext cx="8534520" cy="137160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1"/>
          <p:cNvSpPr/>
          <p:nvPr/>
        </p:nvSpPr>
        <p:spPr>
          <a:xfrm>
            <a:off x="736560" y="304920"/>
            <a:ext cx="7924680" cy="99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ходы бюдже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безвозмездные и безвозвра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упления денежных средств в бюдж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1"/>
          <p:cNvSpPr/>
          <p:nvPr/>
        </p:nvSpPr>
        <p:spPr>
          <a:xfrm>
            <a:off x="685800" y="2819520"/>
            <a:ext cx="79246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3"/>
          <p:cNvSpPr/>
          <p:nvPr/>
        </p:nvSpPr>
        <p:spPr>
          <a:xfrm>
            <a:off x="228600" y="358128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алоговые дох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3"/>
          <p:cNvSpPr/>
          <p:nvPr/>
        </p:nvSpPr>
        <p:spPr>
          <a:xfrm>
            <a:off x="762120" y="403848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Неналоговые дох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3"/>
          <p:cNvSpPr/>
          <p:nvPr/>
        </p:nvSpPr>
        <p:spPr>
          <a:xfrm>
            <a:off x="1752480" y="457200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Безвозмездные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оступ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3"/>
          <p:cNvSpPr/>
          <p:nvPr/>
        </p:nvSpPr>
        <p:spPr>
          <a:xfrm>
            <a:off x="6858000" y="35812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обственны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3"/>
          <p:cNvSpPr/>
          <p:nvPr/>
        </p:nvSpPr>
        <p:spPr>
          <a:xfrm>
            <a:off x="6400800" y="44197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Регулирующ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6"/>
          <p:cNvSpPr/>
          <p:nvPr/>
        </p:nvSpPr>
        <p:spPr>
          <a:xfrm>
            <a:off x="2133720" y="1523880"/>
            <a:ext cx="5410080" cy="3657600"/>
          </a:xfrm>
          <a:prstGeom prst="flowChartMerg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хо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0E9B-E395-4967-AF92-E0199A030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3816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1"/>
          <p:cNvSpPr/>
          <p:nvPr/>
        </p:nvSpPr>
        <p:spPr>
          <a:xfrm>
            <a:off x="495360" y="152280"/>
            <a:ext cx="8458200" cy="1143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ственные доходы бюджета Поповкинского сельсове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доходы, закрепленные на постоянной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ностью или частично за бюдже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  Дмитриевс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6" descr="деньги (1)"/>
          <p:cNvPicPr/>
          <p:nvPr/>
        </p:nvPicPr>
        <p:blipFill>
          <a:blip r:embed="rId2"/>
          <a:stretch/>
        </p:blipFill>
        <p:spPr>
          <a:xfrm>
            <a:off x="5715000" y="320040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548" name="AutoShape 11"/>
          <p:cNvSpPr/>
          <p:nvPr/>
        </p:nvSpPr>
        <p:spPr>
          <a:xfrm>
            <a:off x="279360" y="2946240"/>
            <a:ext cx="6819840" cy="99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налоговые доходы, зачисляемые в бюджет в соответствии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дательством РФ, законами субъектов РФ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ыми правовыми ак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1"/>
          <p:cNvSpPr/>
          <p:nvPr/>
        </p:nvSpPr>
        <p:spPr>
          <a:xfrm>
            <a:off x="291960" y="4419720"/>
            <a:ext cx="6019920" cy="99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ходы, полученные бюджетом в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возмездных поступ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исключением субвен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1"/>
          <p:cNvSpPr/>
          <p:nvPr/>
        </p:nvSpPr>
        <p:spPr>
          <a:xfrm>
            <a:off x="380880" y="1523880"/>
            <a:ext cx="7620120" cy="1067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оговые доходы, зачисляемые в бюджеты в соответствии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ным законодательством РФ и законодатель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налогах и сб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9"/>
          <p:cNvSpPr/>
          <p:nvPr/>
        </p:nvSpPr>
        <p:spPr>
          <a:xfrm>
            <a:off x="8242200" y="128124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9"/>
          <p:cNvSpPr/>
          <p:nvPr/>
        </p:nvSpPr>
        <p:spPr>
          <a:xfrm rot="5400000">
            <a:off x="8165520" y="198108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9"/>
          <p:cNvSpPr/>
          <p:nvPr/>
        </p:nvSpPr>
        <p:spPr>
          <a:xfrm rot="5400000">
            <a:off x="7441560" y="293364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9"/>
          <p:cNvSpPr/>
          <p:nvPr/>
        </p:nvSpPr>
        <p:spPr>
          <a:xfrm rot="5400000">
            <a:off x="7212960" y="388620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B20F-817B-4FB0-8FDC-12725E418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57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1"/>
          <p:cNvSpPr/>
          <p:nvPr/>
        </p:nvSpPr>
        <p:spPr>
          <a:xfrm>
            <a:off x="380880" y="7632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Регулирующие доходы бюджета Поповкинского сельсовета Дмитриевского 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это доходы от федеральных и региональных налогов и иных платеж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по которым устанавливаются нормативы отчислений в процентах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местный бюджет на очередной финансовый го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а также на долговременной осно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1"/>
          <p:cNvSpPr/>
          <p:nvPr/>
        </p:nvSpPr>
        <p:spPr>
          <a:xfrm>
            <a:off x="406440" y="2019240"/>
            <a:ext cx="393696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г на доходы физически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1"/>
          <p:cNvSpPr/>
          <p:nvPr/>
        </p:nvSpPr>
        <p:spPr>
          <a:xfrm>
            <a:off x="2362320" y="3276720"/>
            <a:ext cx="518148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г на имущество физически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1"/>
          <p:cNvSpPr/>
          <p:nvPr/>
        </p:nvSpPr>
        <p:spPr>
          <a:xfrm>
            <a:off x="3505320" y="4572000"/>
            <a:ext cx="533376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м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7C27-9B5A-46E3-96D6-87E9B3466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5079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Times New Roman"/>
              </a:rPr>
              <a:t>Классификация доходов по источнику поступления, </a:t>
            </a:r>
            <a:br>
              <a:rPr sz="2400"/>
            </a:br>
            <a:r>
              <a:rPr b="1" lang="ru-RU" sz="2400" spc="-1" strike="noStrike">
                <a:solidFill>
                  <a:srgbClr val="564b3c"/>
                </a:solidFill>
                <a:latin typeface="Times New Roman"/>
              </a:rPr>
              <a:t>по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1"/>
          <p:cNvSpPr/>
          <p:nvPr/>
        </p:nvSpPr>
        <p:spPr>
          <a:xfrm>
            <a:off x="457200" y="1706400"/>
            <a:ext cx="8229600" cy="13716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Налоговые доходы –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 эт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ходы от предусмотренных законодательств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налогах и сборах федеральных налогов и сборов, в том числе от налог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смотренных специальными налоговыми режимами, региональных налог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стных налогов и сборов, а также пеней и штрафов по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1"/>
          <p:cNvSpPr/>
          <p:nvPr/>
        </p:nvSpPr>
        <p:spPr>
          <a:xfrm>
            <a:off x="457200" y="3200400"/>
            <a:ext cx="8229600" cy="121932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Неналоговые доходы 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– это дох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от использования и продажи имуществ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земельных участков, платежи в виде штрафов и санкц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плата за негативное воздействие на окружающую сре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1"/>
          <p:cNvSpPr/>
          <p:nvPr/>
        </p:nvSpPr>
        <p:spPr>
          <a:xfrm>
            <a:off x="546120" y="4800600"/>
            <a:ext cx="8229600" cy="13716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Безвозмездные поступления – это 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поступления в бюд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на безвозмездной и безвозвратной основе из областного бюдже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а также перечисления от физических и юридически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(кроме налоговых и неналоговых доходов)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12C5-99BE-4636-97CF-3A24D180D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Line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152280" y="2209680"/>
            <a:ext cx="8839440" cy="44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64b3c"/>
                </a:solidFill>
                <a:latin typeface="Times New Roman"/>
              </a:rPr>
              <a:t>Уважаемые жители Поповкинского сельсовета Дмитриевского района Курской области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Бюджет для граждан</a:t>
            </a: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это упрощенная версия бюджетного документа, которая использует доступные форматы, чтобы облегчить для граждан понимание бюджета, объяснить им планы и действия Администрации Поповкинского сельсовета Дмитриевского района Курской области и показать формы их возможного взаимодействия по вопросам расходования бюджетных сред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Надеемся, что «Бюджет для граждан» Поповкинского сельсовета Дмитриевского района Курской области станет доступным источником для повышения финансовой грамотности жителей района и активизации общественного контроля за муниципальными расходами. Рассчитываем, что наша совместная работа будет способствовать развитию прозрачности и открытости бюджета и бюджетного процесса для граждан</a:t>
            </a:r>
            <a:r>
              <a:rPr b="0" lang="ru-RU" sz="2100" spc="-1" strike="noStrike">
                <a:solidFill>
                  <a:srgbClr val="564b3c"/>
                </a:solidFill>
                <a:latin typeface="Times New Roman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762120" y="533520"/>
            <a:ext cx="76197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Что такое БЮДЖЕТ ДЛЯ ГРАЖДАН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AEF7-71DB-4061-9043-D77F74184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1"/>
          <p:cNvSpPr/>
          <p:nvPr/>
        </p:nvSpPr>
        <p:spPr>
          <a:xfrm>
            <a:off x="1447920" y="0"/>
            <a:ext cx="7010280" cy="13716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Arial"/>
              </a:rPr>
              <a:t>НАЛОГОВЫЕ Д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Arial"/>
              </a:rPr>
              <a:t>Поповкин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64b3c"/>
                </a:solidFill>
                <a:latin typeface="Arial"/>
              </a:rPr>
              <a:t>Дмитриевского района К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18" descr="очки"/>
          <p:cNvPicPr/>
          <p:nvPr/>
        </p:nvPicPr>
        <p:blipFill>
          <a:blip r:embed="rId2"/>
          <a:stretch/>
        </p:blipFill>
        <p:spPr>
          <a:xfrm>
            <a:off x="0" y="1676520"/>
            <a:ext cx="3733920" cy="260352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11"/>
          <p:cNvSpPr/>
          <p:nvPr/>
        </p:nvSpPr>
        <p:spPr>
          <a:xfrm>
            <a:off x="152280" y="3962520"/>
            <a:ext cx="8839440" cy="26668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В бюджет Поповкинского сельсовета поступают доходы от упла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налога на доходы физических лиц, налога на имущество физических лиц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земельного налога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а также пени и штрафы по н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29"/>
          <p:cNvSpPr/>
          <p:nvPr/>
        </p:nvSpPr>
        <p:spPr>
          <a:xfrm>
            <a:off x="5867280" y="1447920"/>
            <a:ext cx="914400" cy="1295280"/>
          </a:xfrm>
          <a:prstGeom prst="downArrow">
            <a:avLst>
              <a:gd name="adj1" fmla="val 50000"/>
              <a:gd name="adj2" fmla="val 35413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474C-9337-4224-B4A6-7A1AE3BB4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1"/>
          <p:cNvSpPr/>
          <p:nvPr/>
        </p:nvSpPr>
        <p:spPr>
          <a:xfrm>
            <a:off x="1828800" y="304920"/>
            <a:ext cx="5867280" cy="99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БЕЗВОЗМЕЗДНЫЕ ПОСТУПЛЕНИ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1"/>
          <p:cNvSpPr/>
          <p:nvPr/>
        </p:nvSpPr>
        <p:spPr>
          <a:xfrm>
            <a:off x="380880" y="198108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Arial"/>
              </a:rPr>
              <a:t>Дотации</a:t>
            </a: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предоставляю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без определ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конкретной цели е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использования</a:t>
            </a:r>
            <a:r>
              <a:rPr b="0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1"/>
          <p:cNvSpPr/>
          <p:nvPr/>
        </p:nvSpPr>
        <p:spPr>
          <a:xfrm>
            <a:off x="3352680" y="20700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Arial"/>
              </a:rPr>
              <a:t>Суб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предоставляю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на финансиро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«переданных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полномоч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1"/>
          <p:cNvSpPr/>
          <p:nvPr/>
        </p:nvSpPr>
        <p:spPr>
          <a:xfrm>
            <a:off x="6261120" y="1954080"/>
            <a:ext cx="2666880" cy="29718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2971800"/>
              <a:gd name="textAreaBottom" fmla="*/ 2841840 h 2971800"/>
            </a:gdLst>
            <a:ahLst/>
            <a:rect l="textAreaLeft" t="textAreaTop" r="textAreaRight" b="textAreaBottom"/>
            <a:pathLst>
              <a:path w="21600" h="24069">
                <a:moveTo>
                  <a:pt x="3600" y="0"/>
                </a:moveTo>
                <a:arcTo wR="3600" hR="3600" stAng="16200000" swAng="-5400000"/>
                <a:lnTo>
                  <a:pt x="0" y="20469"/>
                </a:lnTo>
                <a:arcTo wR="3600" hR="3600" stAng="10800000" swAng="-5400000"/>
                <a:lnTo>
                  <a:pt x="18000" y="240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Arial"/>
              </a:rPr>
              <a:t>Субсидии</a:t>
            </a: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предоставляю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на услов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долев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софинансиро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расходов други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Arial"/>
              </a:rPr>
              <a:t>бюджетов</a:t>
            </a:r>
            <a:r>
              <a:rPr b="0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9"/>
          <p:cNvSpPr/>
          <p:nvPr/>
        </p:nvSpPr>
        <p:spPr>
          <a:xfrm>
            <a:off x="4305240" y="14479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9"/>
          <p:cNvSpPr/>
          <p:nvPr/>
        </p:nvSpPr>
        <p:spPr>
          <a:xfrm>
            <a:off x="1828800" y="1496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29"/>
          <p:cNvSpPr/>
          <p:nvPr/>
        </p:nvSpPr>
        <p:spPr>
          <a:xfrm>
            <a:off x="6794640" y="1477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12CB-66C8-49D4-BEF6-CA40F591A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1"/>
          <p:cNvSpPr/>
          <p:nvPr/>
        </p:nvSpPr>
        <p:spPr>
          <a:xfrm>
            <a:off x="635040" y="457200"/>
            <a:ext cx="83818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Источники финансирования дефицита бюдже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1"/>
          <p:cNvSpPr/>
          <p:nvPr/>
        </p:nvSpPr>
        <p:spPr>
          <a:xfrm>
            <a:off x="2666880" y="3276720"/>
            <a:ext cx="3733920" cy="19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ежные сред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яем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ому бюдже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ой системы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звра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ездной основ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1"/>
          <p:cNvSpPr/>
          <p:nvPr/>
        </p:nvSpPr>
        <p:spPr>
          <a:xfrm>
            <a:off x="6019920" y="2895480"/>
            <a:ext cx="2971800" cy="2590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ем в денежной форм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яем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дитной организ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ю на услов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ности с выпл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емщиком проц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ользование зай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1"/>
          <p:cNvSpPr/>
          <p:nvPr/>
        </p:nvSpPr>
        <p:spPr>
          <a:xfrm>
            <a:off x="304920" y="2895480"/>
            <a:ext cx="2743200" cy="26672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ные бума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щ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и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29"/>
          <p:cNvSpPr/>
          <p:nvPr/>
        </p:nvSpPr>
        <p:spPr>
          <a:xfrm>
            <a:off x="4343400" y="2895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1371600" y="2666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29"/>
          <p:cNvSpPr/>
          <p:nvPr/>
        </p:nvSpPr>
        <p:spPr>
          <a:xfrm>
            <a:off x="7391520" y="25909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1"/>
          <p:cNvSpPr/>
          <p:nvPr/>
        </p:nvSpPr>
        <p:spPr>
          <a:xfrm>
            <a:off x="304920" y="2133720"/>
            <a:ext cx="259056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ные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1"/>
          <p:cNvSpPr/>
          <p:nvPr/>
        </p:nvSpPr>
        <p:spPr>
          <a:xfrm>
            <a:off x="3048120" y="2133720"/>
            <a:ext cx="2971800" cy="99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ные кред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других бюдж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ной системы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172200" y="213372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диты креди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304920" y="5791320"/>
            <a:ext cx="86868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Arial"/>
              </a:rPr>
              <a:t>В 2022 году и на плановый период 2023-2024 г.г. бюджет Поповкинского сель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Arial"/>
              </a:rPr>
              <a:t>планируется сбалансированный (без дефицита), поэт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Arial"/>
              </a:rPr>
              <a:t>источники финансирования дефицита бюджета не планируются</a:t>
            </a: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AD15-E80C-4059-8D13-7E2D7EF4F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152280" y="6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380880" y="2286000"/>
            <a:ext cx="8229600" cy="19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ый дол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обязатель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ающие из муниципальных займов (заимствований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ых на себя муниципальным образов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й (поручительств), а также принятые на себ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ым образованием обязательства третьих 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29"/>
          <p:cNvSpPr/>
          <p:nvPr/>
        </p:nvSpPr>
        <p:spPr>
          <a:xfrm>
            <a:off x="4114800" y="1523880"/>
            <a:ext cx="457200" cy="762120"/>
          </a:xfrm>
          <a:prstGeom prst="downArrow">
            <a:avLst>
              <a:gd name="adj1" fmla="val 50000"/>
              <a:gd name="adj2" fmla="val 25004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1"/>
          <p:cNvSpPr/>
          <p:nvPr/>
        </p:nvSpPr>
        <p:spPr>
          <a:xfrm>
            <a:off x="419040" y="609480"/>
            <a:ext cx="83822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Муниципальный долг Поповкинского сельсове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1752480" y="4495680"/>
            <a:ext cx="5943600" cy="22100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!!!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ельный объем муниципального дол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должен превышать утвержденный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довой объем доходов местного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з учета утвержденного объема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уплений и (или) поступлений налог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ходов по дополнительным норматив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ислен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1"/>
          <p:cNvSpPr/>
          <p:nvPr/>
        </p:nvSpPr>
        <p:spPr>
          <a:xfrm>
            <a:off x="1066680" y="380880"/>
            <a:ext cx="7772400" cy="838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Arial"/>
              </a:rPr>
              <a:t>Предельный объем и верхний пред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Arial"/>
              </a:rPr>
              <a:t>муниципального долга Поповкинского сельсо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1"/>
          <p:cNvSpPr/>
          <p:nvPr/>
        </p:nvSpPr>
        <p:spPr>
          <a:xfrm>
            <a:off x="2895480" y="1663560"/>
            <a:ext cx="396252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Верхний пред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муниципально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1"/>
          <p:cNvSpPr/>
          <p:nvPr/>
        </p:nvSpPr>
        <p:spPr>
          <a:xfrm>
            <a:off x="660240" y="3048120"/>
            <a:ext cx="137160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1.01.202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1"/>
          <p:cNvSpPr/>
          <p:nvPr/>
        </p:nvSpPr>
        <p:spPr>
          <a:xfrm>
            <a:off x="4000680" y="30481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1.01.202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1"/>
          <p:cNvSpPr/>
          <p:nvPr/>
        </p:nvSpPr>
        <p:spPr>
          <a:xfrm>
            <a:off x="7505640" y="3048120"/>
            <a:ext cx="129564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1.01.202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1"/>
          <p:cNvSpPr/>
          <p:nvPr/>
        </p:nvSpPr>
        <p:spPr>
          <a:xfrm>
            <a:off x="400068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,00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58428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7518240" y="410220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,00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7"/>
          <p:cNvSpPr/>
          <p:nvPr/>
        </p:nvSpPr>
        <p:spPr>
          <a:xfrm rot="5400000">
            <a:off x="1174320" y="3600360"/>
            <a:ext cx="3430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37"/>
          <p:cNvSpPr/>
          <p:nvPr/>
        </p:nvSpPr>
        <p:spPr>
          <a:xfrm rot="5400000">
            <a:off x="4514760" y="3600360"/>
            <a:ext cx="3430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37"/>
          <p:cNvSpPr/>
          <p:nvPr/>
        </p:nvSpPr>
        <p:spPr>
          <a:xfrm rot="5400000">
            <a:off x="8070480" y="3600360"/>
            <a:ext cx="3430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1"/>
          <p:cNvSpPr/>
          <p:nvPr/>
        </p:nvSpPr>
        <p:spPr>
          <a:xfrm>
            <a:off x="1981080" y="5334120"/>
            <a:ext cx="6019920" cy="12952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2022 году и на плановый период 2023-2024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влечение заемных средств в бюдж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 не планир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1752480" y="4876920"/>
          <a:ext cx="5562720" cy="157644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8653-7C32-40F9-9278-7A55BB90E9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1"/>
          <p:cNvSpPr/>
          <p:nvPr/>
        </p:nvSpPr>
        <p:spPr>
          <a:xfrm>
            <a:off x="228600" y="1752480"/>
            <a:ext cx="4343400" cy="281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Темпы ро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онда заработной пла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ботников организ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митриевского район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период 2022-2024 г.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20"/>
          <p:cNvSpPr/>
          <p:nvPr/>
        </p:nvSpPr>
        <p:spPr>
          <a:xfrm>
            <a:off x="5410080" y="1828800"/>
            <a:ext cx="3505320" cy="1905120"/>
          </a:xfrm>
          <a:prstGeom prst="wedgeRoundRectCallout">
            <a:avLst>
              <a:gd name="adj1" fmla="val -74138"/>
              <a:gd name="adj2" fmla="val 67750"/>
              <a:gd name="adj3" fmla="val 1666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яются для прогнозирования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юджет Поповкинского сельсовета Дмитриевского района от уплаты налога на доходы физически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1" name=""/>
          <p:cNvGraphicFramePr/>
          <p:nvPr/>
        </p:nvGraphicFramePr>
        <p:xfrm>
          <a:off x="1828800" y="4952880"/>
          <a:ext cx="5562720" cy="157644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A44B-828E-4D87-863B-4AA353A86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1"/>
          <p:cNvSpPr/>
          <p:nvPr/>
        </p:nvSpPr>
        <p:spPr>
          <a:xfrm>
            <a:off x="228600" y="1752480"/>
            <a:ext cx="4343400" cy="281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Индексы-дефлято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оптовых цен продук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сельского хозяй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рганизац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митриевского райо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период 2022-2024 г.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3"/>
          <p:cNvSpPr/>
          <p:nvPr/>
        </p:nvSpPr>
        <p:spPr>
          <a:xfrm>
            <a:off x="5410080" y="1752480"/>
            <a:ext cx="3505320" cy="1905120"/>
          </a:xfrm>
          <a:prstGeom prst="wedgeRoundRectCallout">
            <a:avLst>
              <a:gd name="adj1" fmla="val -74138"/>
              <a:gd name="adj2" fmla="val 67750"/>
              <a:gd name="adj3" fmla="val 1666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яются для прогнозирования доходов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латы  единого сельскохозяйственного на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юджет Поповкинского сельсовета Дмитри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E87E-3A30-4DB1-9093-1AF06020EB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1"/>
          <p:cNvSpPr/>
          <p:nvPr/>
        </p:nvSpPr>
        <p:spPr>
          <a:xfrm>
            <a:off x="609480" y="228600"/>
            <a:ext cx="8153640" cy="1143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Основные параметры проекта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Поповкинского сельсовета Дмитриевского район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на 2022 год и плановый период 2023-2024 г.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1"/>
          <p:cNvSpPr/>
          <p:nvPr/>
        </p:nvSpPr>
        <p:spPr>
          <a:xfrm>
            <a:off x="304920" y="2057400"/>
            <a:ext cx="2361960" cy="12952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202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сбаланс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1"/>
          <p:cNvSpPr/>
          <p:nvPr/>
        </p:nvSpPr>
        <p:spPr>
          <a:xfrm>
            <a:off x="3670200" y="2247840"/>
            <a:ext cx="1981440" cy="129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7 551 450,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1"/>
          <p:cNvSpPr/>
          <p:nvPr/>
        </p:nvSpPr>
        <p:spPr>
          <a:xfrm>
            <a:off x="228600" y="3898800"/>
            <a:ext cx="2438280" cy="11304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202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сбаланс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1"/>
          <p:cNvSpPr/>
          <p:nvPr/>
        </p:nvSpPr>
        <p:spPr>
          <a:xfrm>
            <a:off x="304920" y="56386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202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сбаланс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1"/>
          <p:cNvSpPr/>
          <p:nvPr/>
        </p:nvSpPr>
        <p:spPr>
          <a:xfrm>
            <a:off x="6756480" y="2133720"/>
            <a:ext cx="1981080" cy="1295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Рас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625 325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0"/>
          <p:cNvSpPr/>
          <p:nvPr/>
        </p:nvSpPr>
        <p:spPr>
          <a:xfrm>
            <a:off x="5829480" y="26668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1"/>
          <p:cNvSpPr/>
          <p:nvPr/>
        </p:nvSpPr>
        <p:spPr>
          <a:xfrm>
            <a:off x="5867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619440" y="3816360"/>
            <a:ext cx="1981440" cy="1295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7 093 093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6781680" y="3803760"/>
            <a:ext cx="1981440" cy="1295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Рас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7 093 093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4"/>
          <p:cNvSpPr/>
          <p:nvPr/>
        </p:nvSpPr>
        <p:spPr>
          <a:xfrm>
            <a:off x="5829480" y="42544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5"/>
          <p:cNvSpPr/>
          <p:nvPr/>
        </p:nvSpPr>
        <p:spPr>
          <a:xfrm>
            <a:off x="5829480" y="47242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1"/>
          <p:cNvSpPr/>
          <p:nvPr/>
        </p:nvSpPr>
        <p:spPr>
          <a:xfrm>
            <a:off x="3645000" y="5448240"/>
            <a:ext cx="1981080" cy="129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068 464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1"/>
          <p:cNvSpPr/>
          <p:nvPr/>
        </p:nvSpPr>
        <p:spPr>
          <a:xfrm>
            <a:off x="6794640" y="5486400"/>
            <a:ext cx="1904760" cy="1295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Рас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7 068 464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8"/>
          <p:cNvSpPr/>
          <p:nvPr/>
        </p:nvSpPr>
        <p:spPr>
          <a:xfrm>
            <a:off x="5829480" y="59436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9"/>
          <p:cNvSpPr/>
          <p:nvPr/>
        </p:nvSpPr>
        <p:spPr>
          <a:xfrm>
            <a:off x="5829480" y="63882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37"/>
          <p:cNvSpPr/>
          <p:nvPr/>
        </p:nvSpPr>
        <p:spPr>
          <a:xfrm>
            <a:off x="2666880" y="26668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37"/>
          <p:cNvSpPr/>
          <p:nvPr/>
        </p:nvSpPr>
        <p:spPr>
          <a:xfrm>
            <a:off x="2819520" y="42544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37"/>
          <p:cNvSpPr/>
          <p:nvPr/>
        </p:nvSpPr>
        <p:spPr>
          <a:xfrm>
            <a:off x="2819520" y="60958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1"/>
          <p:cNvSpPr/>
          <p:nvPr/>
        </p:nvSpPr>
        <p:spPr>
          <a:xfrm>
            <a:off x="3695760" y="2247840"/>
            <a:ext cx="1981080" cy="129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7 625 325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A291-A087-4104-81E1-338486FB4F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46748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676" name="Object 58" descr=""/>
          <p:cNvPicPr/>
          <p:nvPr/>
        </p:nvPicPr>
        <p:blipFill>
          <a:blip r:embed="rId1"/>
          <a:stretch/>
        </p:blipFill>
        <p:spPr>
          <a:xfrm>
            <a:off x="619200" y="1447920"/>
            <a:ext cx="8524800" cy="50133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5" descr="фон голубой с переходом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AutoShape 60"/>
          <p:cNvSpPr/>
          <p:nvPr/>
        </p:nvSpPr>
        <p:spPr>
          <a:xfrm>
            <a:off x="380880" y="152280"/>
            <a:ext cx="82296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64b3c"/>
                </a:solidFill>
                <a:latin typeface="Times New Roman"/>
              </a:rPr>
              <a:t>ДОХОДЫ БЮДЖЕТА </a:t>
            </a:r>
            <a:br>
              <a:rPr sz="3200"/>
            </a:br>
            <a:r>
              <a:rPr b="1" i="1" lang="ru-RU" sz="3200" spc="-1" strike="noStrike">
                <a:solidFill>
                  <a:srgbClr val="564b3c"/>
                </a:solidFill>
                <a:latin typeface="Times New Roman"/>
              </a:rPr>
              <a:t>Поповкинского сельсовета </a:t>
            </a:r>
            <a:r>
              <a:rPr b="1" i="1" lang="ru-RU" sz="2400" spc="-1" strike="noStrike">
                <a:solidFill>
                  <a:srgbClr val="564b3c"/>
                </a:solidFill>
                <a:latin typeface="Times New Roman"/>
              </a:rPr>
              <a:t> НА 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61"/>
          <p:cNvSpPr/>
          <p:nvPr/>
        </p:nvSpPr>
        <p:spPr>
          <a:xfrm>
            <a:off x="6705720" y="137160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62"/>
          <p:cNvSpPr/>
          <p:nvPr/>
        </p:nvSpPr>
        <p:spPr>
          <a:xfrm>
            <a:off x="7315200" y="22860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Дот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63"/>
          <p:cNvSpPr/>
          <p:nvPr/>
        </p:nvSpPr>
        <p:spPr>
          <a:xfrm>
            <a:off x="7315200" y="358128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уб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64"/>
          <p:cNvSpPr/>
          <p:nvPr/>
        </p:nvSpPr>
        <p:spPr>
          <a:xfrm>
            <a:off x="7315200" y="510552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Иные 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трансфе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65"/>
          <p:cNvSpPr/>
          <p:nvPr/>
        </p:nvSpPr>
        <p:spPr>
          <a:xfrm>
            <a:off x="685800" y="1447920"/>
            <a:ext cx="205740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Налог на дох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физических 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66"/>
          <p:cNvSpPr/>
          <p:nvPr/>
        </p:nvSpPr>
        <p:spPr>
          <a:xfrm>
            <a:off x="762120" y="2857680"/>
            <a:ext cx="198108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Налог на имущ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физически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99"/>
          <p:cNvSpPr/>
          <p:nvPr/>
        </p:nvSpPr>
        <p:spPr>
          <a:xfrm flipH="1">
            <a:off x="5943240" y="2590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00"/>
          <p:cNvSpPr/>
          <p:nvPr/>
        </p:nvSpPr>
        <p:spPr>
          <a:xfrm flipH="1" flipV="1">
            <a:off x="5714640" y="4495680"/>
            <a:ext cx="160020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01"/>
          <p:cNvSpPr/>
          <p:nvPr/>
        </p:nvSpPr>
        <p:spPr>
          <a:xfrm flipH="1">
            <a:off x="5943600" y="38862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66"/>
          <p:cNvSpPr/>
          <p:nvPr/>
        </p:nvSpPr>
        <p:spPr>
          <a:xfrm>
            <a:off x="762120" y="424188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Земельный нал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5"/>
          <p:cNvSpPr/>
          <p:nvPr/>
        </p:nvSpPr>
        <p:spPr>
          <a:xfrm>
            <a:off x="2819520" y="476244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6"/>
          <p:cNvSpPr/>
          <p:nvPr/>
        </p:nvSpPr>
        <p:spPr>
          <a:xfrm flipV="1">
            <a:off x="2743200" y="3123720"/>
            <a:ext cx="1371600" cy="1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7"/>
          <p:cNvSpPr/>
          <p:nvPr/>
        </p:nvSpPr>
        <p:spPr>
          <a:xfrm>
            <a:off x="2743200" y="17146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E7C4-4EE6-429E-A470-8F8CACB01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46748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694" name="Object 58" descr=""/>
          <p:cNvPicPr/>
          <p:nvPr/>
        </p:nvPicPr>
        <p:blipFill>
          <a:blip r:embed="rId1"/>
          <a:stretch/>
        </p:blipFill>
        <p:spPr>
          <a:xfrm>
            <a:off x="619200" y="1447920"/>
            <a:ext cx="8524800" cy="50133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5" descr="фон голубой с переходом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60"/>
          <p:cNvSpPr/>
          <p:nvPr/>
        </p:nvSpPr>
        <p:spPr>
          <a:xfrm>
            <a:off x="380880" y="152280"/>
            <a:ext cx="82296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64b3c"/>
                </a:solidFill>
                <a:latin typeface="Times New Roman"/>
              </a:rPr>
              <a:t>ДОХОДЫ БЮДЖЕТА </a:t>
            </a:r>
            <a:br>
              <a:rPr sz="3200"/>
            </a:br>
            <a:r>
              <a:rPr b="1" i="1" lang="ru-RU" sz="2400" spc="-1" strike="noStrike">
                <a:solidFill>
                  <a:srgbClr val="564b3c"/>
                </a:solidFill>
                <a:latin typeface="Times New Roman"/>
              </a:rPr>
              <a:t>НОВОПОСЕЛЕНОВСКОГО СЕЛЬСОВЕТА НА 202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61"/>
          <p:cNvSpPr/>
          <p:nvPr/>
        </p:nvSpPr>
        <p:spPr>
          <a:xfrm>
            <a:off x="6705720" y="137160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62"/>
          <p:cNvSpPr/>
          <p:nvPr/>
        </p:nvSpPr>
        <p:spPr>
          <a:xfrm>
            <a:off x="7315200" y="22860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Дот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63"/>
          <p:cNvSpPr/>
          <p:nvPr/>
        </p:nvSpPr>
        <p:spPr>
          <a:xfrm>
            <a:off x="7315200" y="358128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уб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64"/>
          <p:cNvSpPr/>
          <p:nvPr/>
        </p:nvSpPr>
        <p:spPr>
          <a:xfrm>
            <a:off x="7315200" y="510552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Иные 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трансфе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65"/>
          <p:cNvSpPr/>
          <p:nvPr/>
        </p:nvSpPr>
        <p:spPr>
          <a:xfrm>
            <a:off x="685800" y="1447920"/>
            <a:ext cx="205740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Налог на дох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физических 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66"/>
          <p:cNvSpPr/>
          <p:nvPr/>
        </p:nvSpPr>
        <p:spPr>
          <a:xfrm>
            <a:off x="762120" y="2857680"/>
            <a:ext cx="198108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Налог на имущ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физически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99"/>
          <p:cNvSpPr/>
          <p:nvPr/>
        </p:nvSpPr>
        <p:spPr>
          <a:xfrm flipH="1">
            <a:off x="5943240" y="25909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00"/>
          <p:cNvSpPr/>
          <p:nvPr/>
        </p:nvSpPr>
        <p:spPr>
          <a:xfrm flipH="1" flipV="1">
            <a:off x="5714640" y="4495680"/>
            <a:ext cx="160020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01"/>
          <p:cNvSpPr/>
          <p:nvPr/>
        </p:nvSpPr>
        <p:spPr>
          <a:xfrm flipH="1">
            <a:off x="5943600" y="38862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66"/>
          <p:cNvSpPr/>
          <p:nvPr/>
        </p:nvSpPr>
        <p:spPr>
          <a:xfrm>
            <a:off x="762120" y="424188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Земельный нал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5"/>
          <p:cNvSpPr/>
          <p:nvPr/>
        </p:nvSpPr>
        <p:spPr>
          <a:xfrm>
            <a:off x="2819520" y="476244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6"/>
          <p:cNvSpPr/>
          <p:nvPr/>
        </p:nvSpPr>
        <p:spPr>
          <a:xfrm flipV="1">
            <a:off x="2743200" y="3123720"/>
            <a:ext cx="1371600" cy="1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7"/>
          <p:cNvSpPr/>
          <p:nvPr/>
        </p:nvSpPr>
        <p:spPr>
          <a:xfrm>
            <a:off x="2743200" y="17146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E768-651D-4D55-A7D8-CD7026EA7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609480" y="2133720"/>
            <a:ext cx="792504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фор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я и расходования денежных средст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назначенных для финансового обеспечения задач и функ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стного само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1"/>
          <p:cNvSpPr/>
          <p:nvPr/>
        </p:nvSpPr>
        <p:spPr>
          <a:xfrm>
            <a:off x="2209680" y="685800"/>
            <a:ext cx="5029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Что такое БЮДЖЕТ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6"/>
          <p:cNvSpPr/>
          <p:nvPr/>
        </p:nvSpPr>
        <p:spPr>
          <a:xfrm>
            <a:off x="304920" y="3352680"/>
            <a:ext cx="2971800" cy="3276720"/>
          </a:xfrm>
          <a:prstGeom prst="octagon">
            <a:avLst>
              <a:gd name="adj" fmla="val 2928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а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юджет де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 (нало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и и сбо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возмез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7"/>
          <p:cNvSpPr/>
          <p:nvPr/>
        </p:nvSpPr>
        <p:spPr>
          <a:xfrm>
            <a:off x="5867280" y="3352680"/>
            <a:ext cx="3048120" cy="3276720"/>
          </a:xfrm>
          <a:prstGeom prst="octagon">
            <a:avLst>
              <a:gd name="adj" fmla="val 2928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лачив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бюджета ден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 на содерж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ых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, ЖК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ы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ит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1" descr="0_image_2274_1"/>
          <p:cNvPicPr/>
          <p:nvPr/>
        </p:nvPicPr>
        <p:blipFill>
          <a:blip r:embed="rId2"/>
          <a:stretch/>
        </p:blipFill>
        <p:spPr>
          <a:xfrm>
            <a:off x="3429000" y="3352680"/>
            <a:ext cx="22860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2A99-7435-43B1-B618-1EB7C37D5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1"/>
          <p:cNvSpPr/>
          <p:nvPr/>
        </p:nvSpPr>
        <p:spPr>
          <a:xfrm>
            <a:off x="457200" y="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Расходы бюджет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это выплачиваемые из бюджета денежные сред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направляемые на финансовое обеспечение задач и функ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государства и местного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13" descr="деньги (1)"/>
          <p:cNvPicPr/>
          <p:nvPr/>
        </p:nvPicPr>
        <p:blipFill>
          <a:blip r:embed="rId2"/>
          <a:stretch/>
        </p:blipFill>
        <p:spPr>
          <a:xfrm>
            <a:off x="533520" y="2971800"/>
            <a:ext cx="8183520" cy="342900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23"/>
          <p:cNvSpPr/>
          <p:nvPr/>
        </p:nvSpPr>
        <p:spPr>
          <a:xfrm>
            <a:off x="152280" y="4343400"/>
            <a:ext cx="2895840" cy="13716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Функциональ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3"/>
          <p:cNvSpPr/>
          <p:nvPr/>
        </p:nvSpPr>
        <p:spPr>
          <a:xfrm>
            <a:off x="3276720" y="4343400"/>
            <a:ext cx="2590560" cy="13716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едомствен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9"/>
          <p:cNvSpPr/>
          <p:nvPr/>
        </p:nvSpPr>
        <p:spPr>
          <a:xfrm>
            <a:off x="236232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29"/>
          <p:cNvSpPr/>
          <p:nvPr/>
        </p:nvSpPr>
        <p:spPr>
          <a:xfrm>
            <a:off x="434340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3"/>
          <p:cNvSpPr/>
          <p:nvPr/>
        </p:nvSpPr>
        <p:spPr>
          <a:xfrm>
            <a:off x="6095880" y="4343400"/>
            <a:ext cx="2819520" cy="13716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Экономическ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3"/>
          <p:cNvSpPr/>
          <p:nvPr/>
        </p:nvSpPr>
        <p:spPr>
          <a:xfrm>
            <a:off x="2057400" y="3200400"/>
            <a:ext cx="5181480" cy="6094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Классификация расход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9"/>
          <p:cNvSpPr/>
          <p:nvPr/>
        </p:nvSpPr>
        <p:spPr>
          <a:xfrm>
            <a:off x="640080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FBD7-8290-4D7E-8746-A2A04E0C82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33520" y="228600"/>
            <a:ext cx="86104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Функциональная классификация расходов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Поповкинского сельсовета Дмитриевско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14" descr="герб"/>
          <p:cNvPicPr/>
          <p:nvPr/>
        </p:nvPicPr>
        <p:blipFill>
          <a:blip r:embed="rId2"/>
          <a:stretch/>
        </p:blipFill>
        <p:spPr>
          <a:xfrm>
            <a:off x="152280" y="2819520"/>
            <a:ext cx="1752840" cy="1162080"/>
          </a:xfrm>
          <a:prstGeom prst="rect">
            <a:avLst/>
          </a:prstGeom>
          <a:ln w="0">
            <a:noFill/>
          </a:ln>
        </p:spPr>
      </p:pic>
      <p:sp>
        <p:nvSpPr>
          <p:cNvPr id="731" name="AutoShape 61"/>
          <p:cNvSpPr/>
          <p:nvPr/>
        </p:nvSpPr>
        <p:spPr>
          <a:xfrm>
            <a:off x="304920" y="411480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Общегосударственны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вопро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61"/>
          <p:cNvSpPr/>
          <p:nvPr/>
        </p:nvSpPr>
        <p:spPr>
          <a:xfrm>
            <a:off x="4114800" y="61722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Социальная поли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1"/>
          <p:cNvSpPr/>
          <p:nvPr/>
        </p:nvSpPr>
        <p:spPr>
          <a:xfrm>
            <a:off x="2133720" y="617220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Национальн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оборо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61"/>
          <p:cNvSpPr/>
          <p:nvPr/>
        </p:nvSpPr>
        <p:spPr>
          <a:xfrm>
            <a:off x="380880" y="61722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Культур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кинематограф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61"/>
          <p:cNvSpPr/>
          <p:nvPr/>
        </p:nvSpPr>
        <p:spPr>
          <a:xfrm>
            <a:off x="6553080" y="4114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Жилищно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коммунально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хозяй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3" descr="экономика"/>
          <p:cNvPicPr/>
          <p:nvPr/>
        </p:nvPicPr>
        <p:blipFill>
          <a:blip r:embed="rId3"/>
          <a:stretch/>
        </p:blipFill>
        <p:spPr>
          <a:xfrm>
            <a:off x="4038480" y="2895480"/>
            <a:ext cx="1447920" cy="10796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4" descr="камера"/>
          <p:cNvPicPr/>
          <p:nvPr/>
        </p:nvPicPr>
        <p:blipFill>
          <a:blip r:embed="rId4"/>
          <a:stretch/>
        </p:blipFill>
        <p:spPr>
          <a:xfrm>
            <a:off x="2057400" y="2895480"/>
            <a:ext cx="1752480" cy="9892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25" descr="котельная"/>
          <p:cNvPicPr/>
          <p:nvPr/>
        </p:nvPicPr>
        <p:blipFill>
          <a:blip r:embed="rId5"/>
          <a:stretch/>
        </p:blipFill>
        <p:spPr>
          <a:xfrm>
            <a:off x="6477120" y="2895480"/>
            <a:ext cx="1523880" cy="10890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7" descr="культура"/>
          <p:cNvPicPr/>
          <p:nvPr/>
        </p:nvPicPr>
        <p:blipFill>
          <a:blip r:embed="rId6"/>
          <a:stretch/>
        </p:blipFill>
        <p:spPr>
          <a:xfrm>
            <a:off x="304920" y="4572000"/>
            <a:ext cx="1571400" cy="155592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28" descr="отлов"/>
          <p:cNvPicPr/>
          <p:nvPr/>
        </p:nvPicPr>
        <p:blipFill>
          <a:blip r:embed="rId7"/>
          <a:stretch/>
        </p:blipFill>
        <p:spPr>
          <a:xfrm>
            <a:off x="2057400" y="4648320"/>
            <a:ext cx="1752480" cy="1295280"/>
          </a:xfrm>
          <a:prstGeom prst="rect">
            <a:avLst/>
          </a:prstGeom>
          <a:ln w="0">
            <a:noFill/>
          </a:ln>
        </p:spPr>
      </p:pic>
      <p:sp>
        <p:nvSpPr>
          <p:cNvPr id="741" name="AutoShape 61"/>
          <p:cNvSpPr/>
          <p:nvPr/>
        </p:nvSpPr>
        <p:spPr>
          <a:xfrm>
            <a:off x="6629400" y="61722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Физкультура и 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31" descr="спортзал"/>
          <p:cNvPicPr/>
          <p:nvPr/>
        </p:nvPicPr>
        <p:blipFill>
          <a:blip r:embed="rId8"/>
          <a:stretch/>
        </p:blipFill>
        <p:spPr>
          <a:xfrm>
            <a:off x="6934320" y="4648320"/>
            <a:ext cx="1038240" cy="10922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4" descr="пенсионеры"/>
          <p:cNvPicPr/>
          <p:nvPr/>
        </p:nvPicPr>
        <p:blipFill>
          <a:blip r:embed="rId9"/>
          <a:stretch/>
        </p:blipFill>
        <p:spPr>
          <a:xfrm>
            <a:off x="4064040" y="4648320"/>
            <a:ext cx="1625400" cy="121896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61"/>
          <p:cNvSpPr/>
          <p:nvPr/>
        </p:nvSpPr>
        <p:spPr>
          <a:xfrm>
            <a:off x="4038480" y="4114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Национа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эконом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61"/>
          <p:cNvSpPr/>
          <p:nvPr/>
        </p:nvSpPr>
        <p:spPr>
          <a:xfrm>
            <a:off x="2057400" y="3962520"/>
            <a:ext cx="16002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Национа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безопасность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правоохранительн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11"/>
          <p:cNvSpPr/>
          <p:nvPr/>
        </p:nvSpPr>
        <p:spPr>
          <a:xfrm>
            <a:off x="380880" y="304920"/>
            <a:ext cx="861084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Ведомственная классификация расходов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Поповкинского сельсовета Дмитриевско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61"/>
          <p:cNvSpPr/>
          <p:nvPr/>
        </p:nvSpPr>
        <p:spPr>
          <a:xfrm>
            <a:off x="1066680" y="4343400"/>
            <a:ext cx="73152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Администрация Поповкинского сель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Дмитриевского района Кур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70"/>
          <p:cNvSpPr/>
          <p:nvPr/>
        </p:nvSpPr>
        <p:spPr>
          <a:xfrm>
            <a:off x="609480" y="2590920"/>
            <a:ext cx="8229600" cy="990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Данная классификация непосредственно связана со структурой управления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на отображает группировку юридических лиц, получающих бюджетны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редства (это главные распорядители средств бюджет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50"/>
          <p:cNvSpPr/>
          <p:nvPr/>
        </p:nvSpPr>
        <p:spPr>
          <a:xfrm>
            <a:off x="419112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80C3-F5DC-4BA9-A0F3-E3238D44D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1"/>
          <p:cNvSpPr/>
          <p:nvPr/>
        </p:nvSpPr>
        <p:spPr>
          <a:xfrm>
            <a:off x="685800" y="304920"/>
            <a:ext cx="86104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Экономическая классификация расходов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Поповкинского сельсовета Дмитриевско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70"/>
          <p:cNvSpPr/>
          <p:nvPr/>
        </p:nvSpPr>
        <p:spPr>
          <a:xfrm>
            <a:off x="533520" y="2819520"/>
            <a:ext cx="8229600" cy="3200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анная классификация показывает дел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сходов государства на текущие и капитальны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 также на выплату заработной платы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материальные затраты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приобретение товаров и услу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8C39-567F-4DBB-A338-45B2E7A54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1"/>
          <p:cNvSpPr/>
          <p:nvPr/>
        </p:nvSpPr>
        <p:spPr>
          <a:xfrm>
            <a:off x="495360" y="45720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Общегосударственные вопросы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1"/>
          <p:cNvSpPr/>
          <p:nvPr/>
        </p:nvSpPr>
        <p:spPr>
          <a:xfrm>
            <a:off x="3200400" y="2971800"/>
            <a:ext cx="2819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1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11"/>
          <p:cNvSpPr/>
          <p:nvPr/>
        </p:nvSpPr>
        <p:spPr>
          <a:xfrm>
            <a:off x="40644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484 204,00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11"/>
          <p:cNvSpPr/>
          <p:nvPr/>
        </p:nvSpPr>
        <p:spPr>
          <a:xfrm>
            <a:off x="152280" y="4495680"/>
            <a:ext cx="8839440" cy="205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В разде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«Общегосударственные вопросы» включаются расходы на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функционирования Главы Поповкинского сельсовета Дмитриевского района, функцион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Администрации Поповкинского сельсовета Дмитриевского район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другие общегосударственные вопросы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3581280" y="3809880"/>
            <a:ext cx="1981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473 711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1"/>
          <p:cNvSpPr/>
          <p:nvPr/>
        </p:nvSpPr>
        <p:spPr>
          <a:xfrm>
            <a:off x="640080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473 711,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29"/>
          <p:cNvSpPr/>
          <p:nvPr/>
        </p:nvSpPr>
        <p:spPr>
          <a:xfrm>
            <a:off x="4267080" y="3429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29"/>
          <p:cNvSpPr/>
          <p:nvPr/>
        </p:nvSpPr>
        <p:spPr>
          <a:xfrm>
            <a:off x="708660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A009-28C9-4B69-BEC8-F4CCC4B0E3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11"/>
          <p:cNvSpPr/>
          <p:nvPr/>
        </p:nvSpPr>
        <p:spPr>
          <a:xfrm>
            <a:off x="380880" y="304920"/>
            <a:ext cx="853452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Национальная безопасность 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правоохранительная деятельность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11"/>
          <p:cNvSpPr/>
          <p:nvPr/>
        </p:nvSpPr>
        <p:spPr>
          <a:xfrm>
            <a:off x="38088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"/>
          <p:cNvSpPr/>
          <p:nvPr/>
        </p:nvSpPr>
        <p:spPr>
          <a:xfrm>
            <a:off x="3352680" y="304812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1"/>
          <p:cNvSpPr/>
          <p:nvPr/>
        </p:nvSpPr>
        <p:spPr>
          <a:xfrm>
            <a:off x="594360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1"/>
          <p:cNvSpPr/>
          <p:nvPr/>
        </p:nvSpPr>
        <p:spPr>
          <a:xfrm>
            <a:off x="685800" y="32767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30 0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152388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1"/>
          <p:cNvSpPr/>
          <p:nvPr/>
        </p:nvSpPr>
        <p:spPr>
          <a:xfrm>
            <a:off x="457200" y="4495680"/>
            <a:ext cx="8381880" cy="2133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В разде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«Национальная безопасность и правоохранительная деятельност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включаются расходы бюджета Поповкинского сельсовета Дмитриевского района на закуп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товаров, работ и услуг в области гражданской обороны, защиты населения и территор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от чрезвычайных ситуаций, безопасности людей на водных объектах, пожарной безопасност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1"/>
          <p:cNvSpPr/>
          <p:nvPr/>
        </p:nvSpPr>
        <p:spPr>
          <a:xfrm>
            <a:off x="3733920" y="388620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5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1"/>
          <p:cNvSpPr/>
          <p:nvPr/>
        </p:nvSpPr>
        <p:spPr>
          <a:xfrm>
            <a:off x="6502320" y="3276720"/>
            <a:ext cx="1981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5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29"/>
          <p:cNvSpPr/>
          <p:nvPr/>
        </p:nvSpPr>
        <p:spPr>
          <a:xfrm>
            <a:off x="4419720" y="35053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29"/>
          <p:cNvSpPr/>
          <p:nvPr/>
        </p:nvSpPr>
        <p:spPr>
          <a:xfrm>
            <a:off x="716292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FA71-E3FC-41D4-8AFE-43969F335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1"/>
          <p:cNvSpPr/>
          <p:nvPr/>
        </p:nvSpPr>
        <p:spPr>
          <a:xfrm>
            <a:off x="380880" y="304920"/>
            <a:ext cx="853452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Национальная безопасность 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правоохранительная деятельность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11"/>
          <p:cNvSpPr/>
          <p:nvPr/>
        </p:nvSpPr>
        <p:spPr>
          <a:xfrm>
            <a:off x="38088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11"/>
          <p:cNvSpPr/>
          <p:nvPr/>
        </p:nvSpPr>
        <p:spPr>
          <a:xfrm>
            <a:off x="3352680" y="304812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1"/>
          <p:cNvSpPr/>
          <p:nvPr/>
        </p:nvSpPr>
        <p:spPr>
          <a:xfrm>
            <a:off x="594360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685800" y="32767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30 0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29"/>
          <p:cNvSpPr/>
          <p:nvPr/>
        </p:nvSpPr>
        <p:spPr>
          <a:xfrm>
            <a:off x="152388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1"/>
          <p:cNvSpPr/>
          <p:nvPr/>
        </p:nvSpPr>
        <p:spPr>
          <a:xfrm>
            <a:off x="457200" y="4495680"/>
            <a:ext cx="8381880" cy="2133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В разде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«Национальная безопасность и правоохранительная деятельност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включаются расходы бюджета Поповкинского сельсовета Дмитриевского района на закуп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товаров, работ и услуг в области гражданской обороны, защиты населения и территор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от чрезвычайных ситуаций, безопасности людей на водных объектах, пожарной безопасност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1"/>
          <p:cNvSpPr/>
          <p:nvPr/>
        </p:nvSpPr>
        <p:spPr>
          <a:xfrm>
            <a:off x="3733920" y="388620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5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1"/>
          <p:cNvSpPr/>
          <p:nvPr/>
        </p:nvSpPr>
        <p:spPr>
          <a:xfrm>
            <a:off x="6502320" y="3276720"/>
            <a:ext cx="1981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5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29"/>
          <p:cNvSpPr/>
          <p:nvPr/>
        </p:nvSpPr>
        <p:spPr>
          <a:xfrm>
            <a:off x="4419720" y="35053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29"/>
          <p:cNvSpPr/>
          <p:nvPr/>
        </p:nvSpPr>
        <p:spPr>
          <a:xfrm>
            <a:off x="716292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A56D-520A-4454-ADC6-A41417F4BE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0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1"/>
          <p:cNvSpPr/>
          <p:nvPr/>
        </p:nvSpPr>
        <p:spPr>
          <a:xfrm>
            <a:off x="343080" y="457200"/>
            <a:ext cx="853416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Жилищно-коммунальное хозяйство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1"/>
          <p:cNvSpPr/>
          <p:nvPr/>
        </p:nvSpPr>
        <p:spPr>
          <a:xfrm>
            <a:off x="38088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11"/>
          <p:cNvSpPr/>
          <p:nvPr/>
        </p:nvSpPr>
        <p:spPr>
          <a:xfrm>
            <a:off x="3352680" y="304812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594360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11"/>
          <p:cNvSpPr/>
          <p:nvPr/>
        </p:nvSpPr>
        <p:spPr>
          <a:xfrm>
            <a:off x="762120" y="325116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080 000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29"/>
          <p:cNvSpPr/>
          <p:nvPr/>
        </p:nvSpPr>
        <p:spPr>
          <a:xfrm>
            <a:off x="152388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1"/>
          <p:cNvSpPr/>
          <p:nvPr/>
        </p:nvSpPr>
        <p:spPr>
          <a:xfrm>
            <a:off x="380880" y="4495680"/>
            <a:ext cx="8458200" cy="2133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В разд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«Жилищно-коммунальное хозяйство» включаются расходы на мероприят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благоустройству территории населенных пунктов, содержанию мест захорон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создание условий для массового отдыха жителей поселения и организация об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мест массового отдыха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11"/>
          <p:cNvSpPr/>
          <p:nvPr/>
        </p:nvSpPr>
        <p:spPr>
          <a:xfrm>
            <a:off x="3733920" y="388620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 206 678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6540480" y="32767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 502 719,00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29"/>
          <p:cNvSpPr/>
          <p:nvPr/>
        </p:nvSpPr>
        <p:spPr>
          <a:xfrm>
            <a:off x="4419720" y="35053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29"/>
          <p:cNvSpPr/>
          <p:nvPr/>
        </p:nvSpPr>
        <p:spPr>
          <a:xfrm>
            <a:off x="716292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EF55-320C-4837-9A0D-63C622FFF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11"/>
          <p:cNvSpPr/>
          <p:nvPr/>
        </p:nvSpPr>
        <p:spPr>
          <a:xfrm>
            <a:off x="495360" y="49536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Культура, кинематография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11"/>
          <p:cNvSpPr/>
          <p:nvPr/>
        </p:nvSpPr>
        <p:spPr>
          <a:xfrm>
            <a:off x="3352680" y="274320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1"/>
          <p:cNvSpPr/>
          <p:nvPr/>
        </p:nvSpPr>
        <p:spPr>
          <a:xfrm>
            <a:off x="762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040 051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1"/>
          <p:cNvSpPr/>
          <p:nvPr/>
        </p:nvSpPr>
        <p:spPr>
          <a:xfrm>
            <a:off x="380880" y="4191120"/>
            <a:ext cx="8458200" cy="2514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В раздел «Культура, кинематография» включаются расходы на оплату труда рабо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учреждений культуры, расходы на проведение конкурсов и выездных мероприят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закупку музыкальных инструментов и другие расход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>
            <a:off x="3657600" y="35812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127 112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1"/>
          <p:cNvSpPr/>
          <p:nvPr/>
        </p:nvSpPr>
        <p:spPr>
          <a:xfrm>
            <a:off x="6477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 032 576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9"/>
          <p:cNvSpPr/>
          <p:nvPr/>
        </p:nvSpPr>
        <p:spPr>
          <a:xfrm>
            <a:off x="4419720" y="3200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9"/>
          <p:cNvSpPr/>
          <p:nvPr/>
        </p:nvSpPr>
        <p:spPr>
          <a:xfrm>
            <a:off x="716292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BD2C-BF7A-4890-A44B-70F6F0035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11"/>
          <p:cNvSpPr/>
          <p:nvPr/>
        </p:nvSpPr>
        <p:spPr>
          <a:xfrm>
            <a:off x="380880" y="45720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Социальная политика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11"/>
          <p:cNvSpPr/>
          <p:nvPr/>
        </p:nvSpPr>
        <p:spPr>
          <a:xfrm>
            <a:off x="3352680" y="274320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11"/>
          <p:cNvSpPr/>
          <p:nvPr/>
        </p:nvSpPr>
        <p:spPr>
          <a:xfrm>
            <a:off x="762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687 600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1"/>
          <p:cNvSpPr/>
          <p:nvPr/>
        </p:nvSpPr>
        <p:spPr>
          <a:xfrm>
            <a:off x="380880" y="4419720"/>
            <a:ext cx="8458200" cy="2209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В раздел «Социальная политика» включаются расходы на выплату пенсий за выслугу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и доплату к пенсиям муниципальных служащих, на выплату единоврем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социальной выплаты при рождении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3657600" y="35812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687 600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6477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687 600,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29"/>
          <p:cNvSpPr/>
          <p:nvPr/>
        </p:nvSpPr>
        <p:spPr>
          <a:xfrm>
            <a:off x="4419720" y="3200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29"/>
          <p:cNvSpPr/>
          <p:nvPr/>
        </p:nvSpPr>
        <p:spPr>
          <a:xfrm>
            <a:off x="716292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CAEF-45D9-42AD-894F-BCE76D11A3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304920" y="2895480"/>
            <a:ext cx="190476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1"/>
          <p:cNvSpPr/>
          <p:nvPr/>
        </p:nvSpPr>
        <p:spPr>
          <a:xfrm>
            <a:off x="5257800" y="2895480"/>
            <a:ext cx="373392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419040" y="304920"/>
            <a:ext cx="838224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64b3c"/>
                </a:solidFill>
                <a:latin typeface="Times New Roman"/>
              </a:rPr>
              <a:t>Какие бывают бюджеты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1"/>
          <p:cNvSpPr/>
          <p:nvPr/>
        </p:nvSpPr>
        <p:spPr>
          <a:xfrm>
            <a:off x="5257800" y="396252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>
            <a:off x="2286000" y="2895480"/>
            <a:ext cx="289548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юджет организа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5791320" y="4952880"/>
            <a:ext cx="1828800" cy="8384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он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6858000" y="5943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9"/>
          <p:cNvSpPr/>
          <p:nvPr/>
        </p:nvSpPr>
        <p:spPr>
          <a:xfrm>
            <a:off x="5943600" y="373392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9"/>
          <p:cNvSpPr/>
          <p:nvPr/>
        </p:nvSpPr>
        <p:spPr>
          <a:xfrm>
            <a:off x="7162920" y="3809880"/>
            <a:ext cx="380880" cy="1143000"/>
          </a:xfrm>
          <a:prstGeom prst="downArrow">
            <a:avLst>
              <a:gd name="adj1" fmla="val 50000"/>
              <a:gd name="adj2" fmla="val 75024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9"/>
          <p:cNvSpPr/>
          <p:nvPr/>
        </p:nvSpPr>
        <p:spPr>
          <a:xfrm>
            <a:off x="8001000" y="3809880"/>
            <a:ext cx="380880" cy="2133720"/>
          </a:xfrm>
          <a:prstGeom prst="downArrow">
            <a:avLst>
              <a:gd name="adj1" fmla="val 50000"/>
              <a:gd name="adj2" fmla="val 140052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9"/>
          <p:cNvSpPr/>
          <p:nvPr/>
        </p:nvSpPr>
        <p:spPr>
          <a:xfrm>
            <a:off x="3429000" y="3809880"/>
            <a:ext cx="380880" cy="1143000"/>
          </a:xfrm>
          <a:prstGeom prst="downArrow">
            <a:avLst>
              <a:gd name="adj1" fmla="val 50000"/>
              <a:gd name="adj2" fmla="val 75024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9" descr="LEFaKxFvcWI"/>
          <p:cNvPicPr/>
          <p:nvPr/>
        </p:nvPicPr>
        <p:blipFill>
          <a:blip r:embed="rId2"/>
          <a:stretch/>
        </p:blipFill>
        <p:spPr>
          <a:xfrm>
            <a:off x="0" y="4753080"/>
            <a:ext cx="2590920" cy="210492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11"/>
          <p:cNvSpPr/>
          <p:nvPr/>
        </p:nvSpPr>
        <p:spPr>
          <a:xfrm>
            <a:off x="2057400" y="4952880"/>
            <a:ext cx="3505320" cy="8384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ы государ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бюджетных фонд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8A2B-08EB-48BC-A061-5EF126CA0C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11"/>
          <p:cNvSpPr/>
          <p:nvPr/>
        </p:nvSpPr>
        <p:spPr>
          <a:xfrm>
            <a:off x="457200" y="30492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Физическая культура и спорт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2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11"/>
          <p:cNvSpPr/>
          <p:nvPr/>
        </p:nvSpPr>
        <p:spPr>
          <a:xfrm>
            <a:off x="3352680" y="274320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11"/>
          <p:cNvSpPr/>
          <p:nvPr/>
        </p:nvSpPr>
        <p:spPr>
          <a:xfrm>
            <a:off x="762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11"/>
          <p:cNvSpPr/>
          <p:nvPr/>
        </p:nvSpPr>
        <p:spPr>
          <a:xfrm>
            <a:off x="228600" y="4419720"/>
            <a:ext cx="8610480" cy="2209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В раздел «Физическая культура и спорт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включаются расходы на создание условий, обеспечивающих повышение мотивации ж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Поповкинского сельсовета к занятиям физической культурой и спор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11"/>
          <p:cNvSpPr/>
          <p:nvPr/>
        </p:nvSpPr>
        <p:spPr>
          <a:xfrm>
            <a:off x="3657600" y="35812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1"/>
          <p:cNvSpPr/>
          <p:nvPr/>
        </p:nvSpPr>
        <p:spPr>
          <a:xfrm>
            <a:off x="6477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29"/>
          <p:cNvSpPr/>
          <p:nvPr/>
        </p:nvSpPr>
        <p:spPr>
          <a:xfrm>
            <a:off x="4419720" y="3200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29"/>
          <p:cNvSpPr/>
          <p:nvPr/>
        </p:nvSpPr>
        <p:spPr>
          <a:xfrm>
            <a:off x="716292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4ABB-2788-456B-AC63-1BAB673F68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11"/>
          <p:cNvSpPr/>
          <p:nvPr/>
        </p:nvSpPr>
        <p:spPr>
          <a:xfrm>
            <a:off x="533520" y="304920"/>
            <a:ext cx="81532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сходные обязательства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Поповкинскогосельсовета Дмитриевско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11"/>
          <p:cNvSpPr/>
          <p:nvPr/>
        </p:nvSpPr>
        <p:spPr>
          <a:xfrm>
            <a:off x="228600" y="1706400"/>
            <a:ext cx="8686800" cy="53802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ходные обязательства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- это возникающие на основе закона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ого нормативного правового акта, договора или соглашения обязан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ублично-правового образования или действующего от его имени бюджетного учрежден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доставить физическому или юридическому лицу, иному публично-правовому образованию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редства из соответствующего бюджет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бличные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- возникающие на основе закона, иного нормативного правового акт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ублично-правового образования перед физическим или юридическим лиц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ым публично-правовым образованием, подлежащие исполнению в установленно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оответствующим законом, иным нормативным правовым актом размере ил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меющие установленный указанным законом, актом порядок его опреде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бличные нормативные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- публичные обязательства перед физическим лиц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одлежащие исполнению в денежной форме в установленном соответствующим закон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ым нормативным правовым актом размере или имеющие установленный порядок ег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дексации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3446-4E9D-4DE5-91C9-90427B46E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609480" y="304920"/>
            <a:ext cx="815364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еестр расходных обязательст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11"/>
          <p:cNvSpPr/>
          <p:nvPr/>
        </p:nvSpPr>
        <p:spPr>
          <a:xfrm>
            <a:off x="228600" y="2019240"/>
            <a:ext cx="8686800" cy="44960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 целях надлежащего контроля за осуществлением расходных обязательств н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рганы государственной и муниципальной власти возложена обязанность п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едению реестра расходных обязательст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естр расходных обязательств,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используемый при составлении проекта бюджета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вод (перечень) законов, иных нормативных правовых акт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муниципальных правовых актов, обуславливающих публичные нормативные обязательства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(или) правовые основания для иных расходных обязательств с указание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оответствующих положений (статей, частей, пунктов, подпунктов, абзацев) законов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ых нормативных правовых актов с оценкой объёмов бюджетных ассигновани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еобходимых для исполнения включённых в реестр обязательств. 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99B4-48A9-4080-B40C-9644A1A00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11"/>
          <p:cNvSpPr/>
          <p:nvPr/>
        </p:nvSpPr>
        <p:spPr>
          <a:xfrm>
            <a:off x="533520" y="482760"/>
            <a:ext cx="81532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сходы по публично-нормативны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обязательства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685800" y="1890720"/>
            <a:ext cx="8153280" cy="44956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бличные нормативные обязательства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– эт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убличные обязательства перед физическим лицом, подлежащие исполнению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 денежной форме в установленном соответствующим закон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ым нормативным правовым актом размере или имеющ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установленный порядок его индексации, за исключением выплат физическому лиц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дусмотренных статусом государственных (муниципальных) служащих, а также лиц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замещающих государственные должности Российской Федераци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государственные должности субъектов Российской Федераци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муниципальные должности, работников казенных учреждени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оеннослужащих, проходящих военную службу по призыву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(обладающих статусом военнослужащих, проходящих военную службу по призыву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лиц, обучающихся в государственных или муниципальных организациях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существляющих образовательную деятельнос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19DA-A66D-415D-A2BB-E755438B5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1"/>
          <p:cNvSpPr/>
          <p:nvPr/>
        </p:nvSpPr>
        <p:spPr>
          <a:xfrm>
            <a:off x="647640" y="571680"/>
            <a:ext cx="815364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Расходы по публично-нормативны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обязательствам в 2022 году, руб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11"/>
          <p:cNvSpPr/>
          <p:nvPr/>
        </p:nvSpPr>
        <p:spPr>
          <a:xfrm>
            <a:off x="7010280" y="2895480"/>
            <a:ext cx="1905120" cy="1143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Arial"/>
              </a:rPr>
              <a:t>6 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11"/>
          <p:cNvSpPr/>
          <p:nvPr/>
        </p:nvSpPr>
        <p:spPr>
          <a:xfrm>
            <a:off x="152280" y="251460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Выплата единовременной социальн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гражданам на рождени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7"/>
          <p:cNvSpPr/>
          <p:nvPr/>
        </p:nvSpPr>
        <p:spPr>
          <a:xfrm>
            <a:off x="6477120" y="3124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636B-BE00-4982-A936-2EF3DBD5D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1"/>
          <p:cNvSpPr/>
          <p:nvPr/>
        </p:nvSpPr>
        <p:spPr>
          <a:xfrm>
            <a:off x="609480" y="1600200"/>
            <a:ext cx="815364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Расходы по публично-нормативны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обязательствам в 2023 году, руб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1"/>
          <p:cNvSpPr/>
          <p:nvPr/>
        </p:nvSpPr>
        <p:spPr>
          <a:xfrm>
            <a:off x="7010280" y="2590920"/>
            <a:ext cx="1905120" cy="18288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Arial"/>
              </a:rPr>
              <a:t>6 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1"/>
          <p:cNvSpPr/>
          <p:nvPr/>
        </p:nvSpPr>
        <p:spPr>
          <a:xfrm>
            <a:off x="152280" y="2514600"/>
            <a:ext cx="670572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Выплата единовременной социальн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гражданам на рождени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37"/>
          <p:cNvSpPr/>
          <p:nvPr/>
        </p:nvSpPr>
        <p:spPr>
          <a:xfrm>
            <a:off x="6477120" y="3124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3D40-C5A3-44C3-811B-ED8C171E0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11"/>
          <p:cNvSpPr/>
          <p:nvPr/>
        </p:nvSpPr>
        <p:spPr>
          <a:xfrm>
            <a:off x="762120" y="457200"/>
            <a:ext cx="815328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Расходы по публично-нормативны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обязательствам в 2024 году, руб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11"/>
          <p:cNvSpPr/>
          <p:nvPr/>
        </p:nvSpPr>
        <p:spPr>
          <a:xfrm>
            <a:off x="7010280" y="2590920"/>
            <a:ext cx="1905120" cy="205740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057400"/>
              <a:gd name="textAreaBottom" fmla="*/ 1964520 h 2057400"/>
            </a:gdLst>
            <a:ahLst/>
            <a:rect l="textAreaLeft" t="textAreaTop" r="textAreaRight" b="textAreaBottom"/>
            <a:pathLst>
              <a:path w="21600" h="23326">
                <a:moveTo>
                  <a:pt x="3600" y="0"/>
                </a:moveTo>
                <a:arcTo wR="3600" hR="3600" stAng="16200000" swAng="-5400000"/>
                <a:lnTo>
                  <a:pt x="0" y="19726"/>
                </a:lnTo>
                <a:arcTo wR="3600" hR="3600" stAng="10800000" swAng="-5400000"/>
                <a:lnTo>
                  <a:pt x="18000" y="233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Arial"/>
              </a:rPr>
              <a:t>6 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11"/>
          <p:cNvSpPr/>
          <p:nvPr/>
        </p:nvSpPr>
        <p:spPr>
          <a:xfrm>
            <a:off x="152280" y="2514600"/>
            <a:ext cx="6705720" cy="228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Выплата единовременной социальн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Arial"/>
              </a:rPr>
              <a:t>гражданам на рождени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7"/>
          <p:cNvSpPr/>
          <p:nvPr/>
        </p:nvSpPr>
        <p:spPr>
          <a:xfrm>
            <a:off x="6477120" y="3276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560E-A999-4FA7-AE2D-84A62AEBA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11"/>
          <p:cNvSpPr/>
          <p:nvPr/>
        </p:nvSpPr>
        <p:spPr>
          <a:xfrm>
            <a:off x="317520" y="0"/>
            <a:ext cx="8763120" cy="1371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Муниципальная программ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э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умент, определяющий цели и зада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й политики в определенной сфере, способы их достиж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емы используемых финансовы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15"/>
          <p:cNvSpPr/>
          <p:nvPr/>
        </p:nvSpPr>
        <p:spPr>
          <a:xfrm>
            <a:off x="228600" y="3048120"/>
            <a:ext cx="2133720" cy="2286000"/>
          </a:xfrm>
          <a:custGeom>
            <a:avLst/>
            <a:gdLst>
              <a:gd name="textAreaLeft" fmla="*/ 118800 w 2133720"/>
              <a:gd name="textAreaRight" fmla="*/ 2014920 w 2133720"/>
              <a:gd name="textAreaTop" fmla="*/ 118800 h 2286000"/>
              <a:gd name="textAreaBottom" fmla="*/ 2167200 h 2286000"/>
            </a:gdLst>
            <a:ahLst/>
            <a:rect l="textAreaLeft" t="textAreaTop" r="textAreaRight" b="textAreaBottom"/>
            <a:pathLst>
              <a:path w="21600" h="23141">
                <a:moveTo>
                  <a:pt x="4114" y="0"/>
                </a:moveTo>
                <a:arcTo wR="4114" hR="4114" stAng="16200000" swAng="-5400000"/>
                <a:lnTo>
                  <a:pt x="0" y="19027"/>
                </a:lnTo>
                <a:arcTo wR="4114" hR="4114" stAng="10800000" swAng="-5400000"/>
                <a:lnTo>
                  <a:pt x="17486" y="23141"/>
                </a:lnTo>
                <a:arcTo wR="4114" hR="4114" stAng="5400000" swAng="-5400000"/>
                <a:lnTo>
                  <a:pt x="21600" y="4114"/>
                </a:lnTo>
                <a:arcTo wR="4114" hR="4114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ш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ффектив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ив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16"/>
          <p:cNvSpPr/>
          <p:nvPr/>
        </p:nvSpPr>
        <p:spPr>
          <a:xfrm>
            <a:off x="2666880" y="3022560"/>
            <a:ext cx="3810240" cy="2514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чения показателей програм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катором по направл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йствия программы и сигнализир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плохом или хорошем результа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ункционирования программ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сти принятия нов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17"/>
          <p:cNvSpPr/>
          <p:nvPr/>
        </p:nvSpPr>
        <p:spPr>
          <a:xfrm>
            <a:off x="6781680" y="3086280"/>
            <a:ext cx="2210040" cy="2209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мках програм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равл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дости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анного програм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11"/>
          <p:cNvSpPr/>
          <p:nvPr/>
        </p:nvSpPr>
        <p:spPr>
          <a:xfrm>
            <a:off x="1828800" y="1714680"/>
            <a:ext cx="5791320" cy="6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64b3c"/>
                </a:solidFill>
                <a:latin typeface="Times New Roman"/>
              </a:rPr>
              <a:t>Цели формирования муниципальной программы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64b3c"/>
                </a:solidFill>
                <a:latin typeface="Times New Roman"/>
              </a:rPr>
              <a:t>в рамках бюджетного проце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7"/>
          <p:cNvSpPr/>
          <p:nvPr/>
        </p:nvSpPr>
        <p:spPr>
          <a:xfrm flipH="1">
            <a:off x="1295280" y="236232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8"/>
          <p:cNvSpPr/>
          <p:nvPr/>
        </p:nvSpPr>
        <p:spPr>
          <a:xfrm>
            <a:off x="457200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9"/>
          <p:cNvSpPr/>
          <p:nvPr/>
        </p:nvSpPr>
        <p:spPr>
          <a:xfrm>
            <a:off x="4572000" y="2362320"/>
            <a:ext cx="3276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5276-2024-4A8F-A3B6-24B7CBAA09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11"/>
          <p:cNvSpPr/>
          <p:nvPr/>
        </p:nvSpPr>
        <p:spPr>
          <a:xfrm>
            <a:off x="266760" y="2044800"/>
            <a:ext cx="8610480" cy="3962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и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т благосостояния граждан - получа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 социальной поддерж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2 год – 687 6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3 год – 687 6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687 6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выплате пенсий за выслугу лет и доплат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нсиям муниципальных служащи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11"/>
          <p:cNvSpPr/>
          <p:nvPr/>
        </p:nvSpPr>
        <p:spPr>
          <a:xfrm>
            <a:off x="304920" y="152280"/>
            <a:ext cx="8534160" cy="1067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оциальная поддержка граждан Поповкинского сельсовета Дмитриев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рской области на 2022-2024 годы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6825-F627-4CA8-AE10-55A7E7246C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11"/>
          <p:cNvSpPr/>
          <p:nvPr/>
        </p:nvSpPr>
        <p:spPr>
          <a:xfrm>
            <a:off x="457200" y="304920"/>
            <a:ext cx="853452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Развитие культуры в Поповкинском сельсовете Дмитриевского района Кур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-2024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1"/>
          <p:cNvSpPr/>
          <p:nvPr/>
        </p:nvSpPr>
        <p:spPr>
          <a:xfrm>
            <a:off x="457200" y="1903320"/>
            <a:ext cx="8153280" cy="4114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благоприятных  условий для доступа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льтурным ценностям и творческой реализа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культурного и духовного потенциала  насел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иление влияния культуры на процесс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х преобраз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экономического развития Новопоселеновского сельсов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р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2 год – 2 040 051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3 год – 2 032 576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2 127 112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обеспечению деятельност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обретение оборудования для учреждений культу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2954-E052-4721-8DD3-D0C064AB44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139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1"/>
          <p:cNvSpPr/>
          <p:nvPr/>
        </p:nvSpPr>
        <p:spPr>
          <a:xfrm>
            <a:off x="533520" y="213372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1 урове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533520" y="685800"/>
            <a:ext cx="838188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64b3c"/>
                </a:solidFill>
                <a:latin typeface="Times New Roman"/>
              </a:rPr>
              <a:t>Бюджетная система Р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8" descr="LEFaKxFvcWI"/>
          <p:cNvPicPr/>
          <p:nvPr/>
        </p:nvPicPr>
        <p:blipFill>
          <a:blip r:embed="rId2"/>
          <a:stretch/>
        </p:blipFill>
        <p:spPr>
          <a:xfrm>
            <a:off x="0" y="4753080"/>
            <a:ext cx="2590920" cy="210492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1"/>
          <p:cNvSpPr/>
          <p:nvPr/>
        </p:nvSpPr>
        <p:spPr>
          <a:xfrm>
            <a:off x="304920" y="2743200"/>
            <a:ext cx="4495680" cy="6094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ьный бюджет; 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ых внебюджетных фон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1"/>
          <p:cNvSpPr/>
          <p:nvPr/>
        </p:nvSpPr>
        <p:spPr>
          <a:xfrm>
            <a:off x="1143000" y="3429000"/>
            <a:ext cx="19051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урове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1"/>
          <p:cNvSpPr/>
          <p:nvPr/>
        </p:nvSpPr>
        <p:spPr>
          <a:xfrm>
            <a:off x="1143000" y="3886200"/>
            <a:ext cx="5257800" cy="6094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ы субъектов РФ; бюджеты территори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ых внебюджетных фон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1"/>
          <p:cNvSpPr/>
          <p:nvPr/>
        </p:nvSpPr>
        <p:spPr>
          <a:xfrm>
            <a:off x="2362320" y="4572000"/>
            <a:ext cx="190476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3 урове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2362320" y="5029200"/>
            <a:ext cx="6553080" cy="8380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ы муниципальных районов; бюджеты город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ругов; бюджеты внутригородских 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одов федерального значения Москвы и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1"/>
          <p:cNvSpPr/>
          <p:nvPr/>
        </p:nvSpPr>
        <p:spPr>
          <a:xfrm>
            <a:off x="3581280" y="5943600"/>
            <a:ext cx="19051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3581280" y="6400800"/>
            <a:ext cx="5334120" cy="30492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ы городских и 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DFDF-435C-4F62-B25D-BF8DA22B0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11"/>
          <p:cNvSpPr/>
          <p:nvPr/>
        </p:nvSpPr>
        <p:spPr>
          <a:xfrm>
            <a:off x="1066680" y="152280"/>
            <a:ext cx="7543800" cy="1219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рофилактика правонарушений в муниципальном образ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оповкинский сельсовет» Дмитриевского района Ку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2022-2024год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11"/>
          <p:cNvSpPr/>
          <p:nvPr/>
        </p:nvSpPr>
        <p:spPr>
          <a:xfrm>
            <a:off x="368280" y="2019240"/>
            <a:ext cx="8077320" cy="4191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и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повышение качества и эффективности работы сист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филактики преступлений и иных правонаруш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тношении определённых категорий лиц 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дельным видам противоправн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создание условий для профилактики и приостано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та злоупотребления наркотиками и их незаконного оборо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допущения распространения наркомании и связанных с 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ступности и правонаруш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2 год – 1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3 год – 1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1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приобретению информационных стенд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титеррористической направленности, а такж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стовок и плакатов антинаркотической направл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1231-BCEA-4CF4-A61E-668E028D9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11"/>
          <p:cNvSpPr/>
          <p:nvPr/>
        </p:nvSpPr>
        <p:spPr>
          <a:xfrm>
            <a:off x="343080" y="304920"/>
            <a:ext cx="8534160" cy="1143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беспечение доступным и комфортным жильем и коммунальными услуг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ждан Поповкинского сельсовета Дмитриев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-2024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1"/>
          <p:cNvSpPr/>
          <p:nvPr/>
        </p:nvSpPr>
        <p:spPr>
          <a:xfrm>
            <a:off x="914400" y="1890720"/>
            <a:ext cx="7962840" cy="3886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учшение условий жизни жителей Поповкинского сель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митриев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2 год –  2 080 000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3 год – 1 502 719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1 206 678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благоустройству, содержанию мест захорон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условий для массового отдыха жителей поселения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рганизацию обустройства мест массового отдыха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7608-1AC3-451B-8E3F-BB2DAE5A5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11"/>
          <p:cNvSpPr/>
          <p:nvPr/>
        </p:nvSpPr>
        <p:spPr>
          <a:xfrm>
            <a:off x="228600" y="38160"/>
            <a:ext cx="8610480" cy="129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Повышение эффективности работы с молодежью, организация отдых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здоровления детей, молодежи, развитие физической культуры и спор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Поповкинском сельсовете Дмитриевского райо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-2024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11"/>
          <p:cNvSpPr/>
          <p:nvPr/>
        </p:nvSpPr>
        <p:spPr>
          <a:xfrm>
            <a:off x="1143000" y="2209680"/>
            <a:ext cx="7238880" cy="3733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и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создание возможностей для успеш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изации и эффективной самореализации молодых люд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воспитание нравственно развитого и физ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ого юного гражданина Росс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2 год –11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3 год – 11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11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укреплению материальной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звития массового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9CF5-B355-4DC0-8D2D-BBAE8F0C3A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11"/>
          <p:cNvSpPr/>
          <p:nvPr/>
        </p:nvSpPr>
        <p:spPr>
          <a:xfrm>
            <a:off x="457200" y="88920"/>
            <a:ext cx="8534520" cy="120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Защита населения и территории от чрезвычайных ситуаций, обеспе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жарной безопасности и безопасности людей на водных объектах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повкинском сельсовете Дмитриевского района Кур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-2024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1"/>
          <p:cNvSpPr/>
          <p:nvPr/>
        </p:nvSpPr>
        <p:spPr>
          <a:xfrm>
            <a:off x="457200" y="2324160"/>
            <a:ext cx="8153280" cy="3505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е комплексной безопас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еления и территор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 Дмитриевского района от чрезвыча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туаций природного и техногенного характ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2 год – 30 0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3 год – 15 0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4 год – 15 0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предупреждению и ликвид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ствий  чрезвычайных ситуаций и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вичных мер  пожарной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C60-3313-4A2D-8FDB-07BDA2E8EF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11"/>
          <p:cNvSpPr/>
          <p:nvPr/>
        </p:nvSpPr>
        <p:spPr>
          <a:xfrm>
            <a:off x="457200" y="88920"/>
            <a:ext cx="8534520" cy="120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Развитие муниципальной службы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повкинском сельсовете Дмитриевского района Кур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-2024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11"/>
          <p:cNvSpPr/>
          <p:nvPr/>
        </p:nvSpPr>
        <p:spPr>
          <a:xfrm>
            <a:off x="457200" y="2324160"/>
            <a:ext cx="8153280" cy="3505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ффективной системы управления муниципальной службо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е ответственности муниципальных служащих за результаты своей 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повкинского сельсовета Дмитриевского района от чрезвыча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туаций природного и техногенного характ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2 год – 380 051, 0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3 год – 380 051,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4 год – 380 051,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7A50-002B-47F7-96CD-AB9FFD808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3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11"/>
          <p:cNvSpPr/>
          <p:nvPr/>
        </p:nvSpPr>
        <p:spPr>
          <a:xfrm>
            <a:off x="457200" y="2133720"/>
            <a:ext cx="8381880" cy="3809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 ДЛЯ КОНТАК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МИНИСТРАЦИЯ  ПОПОВКИН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ЛЬСОВЕТА  ДМИТРИЕВСКОГО РАЙОНА КУР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РЕС: Курская обл., Дмитриевский р-н, с.Попов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ЛЕФОН: 8(47150) 9-12-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рес электронной почты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ovkino46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1"/>
          <p:cNvSpPr/>
          <p:nvPr/>
        </p:nvSpPr>
        <p:spPr>
          <a:xfrm>
            <a:off x="1066680" y="152280"/>
            <a:ext cx="6934320" cy="1219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Бюджетная система Поповкинского сельсо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Дмитриев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1"/>
          <p:cNvSpPr/>
          <p:nvPr/>
        </p:nvSpPr>
        <p:spPr>
          <a:xfrm>
            <a:off x="469800" y="2400480"/>
            <a:ext cx="4267440" cy="2133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юдж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ь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4" descr="0617_171"/>
          <p:cNvPicPr/>
          <p:nvPr/>
        </p:nvPicPr>
        <p:blipFill>
          <a:blip r:embed="rId1"/>
          <a:stretch/>
        </p:blipFill>
        <p:spPr>
          <a:xfrm>
            <a:off x="6477120" y="2324160"/>
            <a:ext cx="190476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0128-9BD4-48BC-8608-081A7C9BEE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228600" y="2514600"/>
            <a:ext cx="4267080" cy="18288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деятельность по составл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а бюджета, его рассмотрен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ию, исполнению, составл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чета об исполнении и его утвер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1"/>
          <p:cNvSpPr/>
          <p:nvPr/>
        </p:nvSpPr>
        <p:spPr>
          <a:xfrm>
            <a:off x="4724280" y="274320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Стадии бюджетного проце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1"/>
          <p:cNvSpPr/>
          <p:nvPr/>
        </p:nvSpPr>
        <p:spPr>
          <a:xfrm>
            <a:off x="279360" y="304920"/>
            <a:ext cx="83818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64b3c"/>
                </a:solidFill>
                <a:latin typeface="Times New Roman"/>
              </a:rPr>
              <a:t>Бюджетный процес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6" descr="g-cvr-1304120-taxes-840a"/>
          <p:cNvPicPr/>
          <p:nvPr/>
        </p:nvPicPr>
        <p:blipFill>
          <a:blip r:embed="rId2"/>
          <a:stretch/>
        </p:blipFill>
        <p:spPr>
          <a:xfrm>
            <a:off x="457200" y="4495680"/>
            <a:ext cx="3733920" cy="217188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11"/>
          <p:cNvSpPr/>
          <p:nvPr/>
        </p:nvSpPr>
        <p:spPr>
          <a:xfrm>
            <a:off x="4724280" y="3581280"/>
            <a:ext cx="4191120" cy="3812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Разработка проекта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1"/>
          <p:cNvSpPr/>
          <p:nvPr/>
        </p:nvSpPr>
        <p:spPr>
          <a:xfrm>
            <a:off x="4724280" y="4191120"/>
            <a:ext cx="4191120" cy="3808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Рассмотрение проекта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1"/>
          <p:cNvSpPr/>
          <p:nvPr/>
        </p:nvSpPr>
        <p:spPr>
          <a:xfrm>
            <a:off x="4724280" y="4800600"/>
            <a:ext cx="4191120" cy="3808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Утверждение проекта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>
            <a:off x="4724280" y="5410080"/>
            <a:ext cx="4191120" cy="3812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Исполнение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1"/>
          <p:cNvSpPr/>
          <p:nvPr/>
        </p:nvSpPr>
        <p:spPr>
          <a:xfrm>
            <a:off x="4724280" y="6019920"/>
            <a:ext cx="4267440" cy="6858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Рассмотрение и утверждение отч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</a:rPr>
              <a:t>об исполнении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9"/>
          <p:cNvSpPr/>
          <p:nvPr/>
        </p:nvSpPr>
        <p:spPr>
          <a:xfrm>
            <a:off x="6477120" y="335268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9"/>
          <p:cNvSpPr/>
          <p:nvPr/>
        </p:nvSpPr>
        <p:spPr>
          <a:xfrm>
            <a:off x="6477120" y="3962520"/>
            <a:ext cx="5331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477120" y="457200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9"/>
          <p:cNvSpPr/>
          <p:nvPr/>
        </p:nvSpPr>
        <p:spPr>
          <a:xfrm>
            <a:off x="6477120" y="518148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9"/>
          <p:cNvSpPr/>
          <p:nvPr/>
        </p:nvSpPr>
        <p:spPr>
          <a:xfrm>
            <a:off x="6477120" y="5791320"/>
            <a:ext cx="5331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AA17-6847-4995-BA42-29B10D546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1"/>
          <p:cNvSpPr/>
          <p:nvPr/>
        </p:nvSpPr>
        <p:spPr>
          <a:xfrm>
            <a:off x="228600" y="2031840"/>
            <a:ext cx="396252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ЖДАН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налогоплательщик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гает форм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ходную часть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1"/>
          <p:cNvSpPr/>
          <p:nvPr/>
        </p:nvSpPr>
        <p:spPr>
          <a:xfrm>
            <a:off x="4813200" y="3276720"/>
            <a:ext cx="4191120" cy="2361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ЖДАН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х гарантий в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ния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КХ, куль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еской куль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рта и друг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авлен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х гарантий населени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ходная часть бюдже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1"/>
          <p:cNvSpPr/>
          <p:nvPr/>
        </p:nvSpPr>
        <p:spPr>
          <a:xfrm>
            <a:off x="419040" y="304920"/>
            <a:ext cx="838224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64b3c"/>
                </a:solidFill>
                <a:latin typeface="Times New Roman"/>
              </a:rPr>
              <a:t>Участие граждан в бюджетном процесс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9" descr="налоги"/>
          <p:cNvPicPr/>
          <p:nvPr/>
        </p:nvPicPr>
        <p:blipFill>
          <a:blip r:embed="rId2"/>
          <a:stretch/>
        </p:blipFill>
        <p:spPr>
          <a:xfrm>
            <a:off x="609480" y="3733920"/>
            <a:ext cx="3429000" cy="284472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29"/>
          <p:cNvSpPr/>
          <p:nvPr/>
        </p:nvSpPr>
        <p:spPr>
          <a:xfrm>
            <a:off x="2019240" y="157464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29"/>
          <p:cNvSpPr/>
          <p:nvPr/>
        </p:nvSpPr>
        <p:spPr>
          <a:xfrm>
            <a:off x="6553080" y="1486080"/>
            <a:ext cx="533520" cy="1752480"/>
          </a:xfrm>
          <a:prstGeom prst="downArrow">
            <a:avLst>
              <a:gd name="adj1" fmla="val 50000"/>
              <a:gd name="adj2" fmla="val 82119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7CAE-203E-45C3-93A8-9CB775FC3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22860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457200" y="3809880"/>
            <a:ext cx="411480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Публичные слуш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по проекту бюдж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Поповкинского сельсов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Дмитриевского района Кур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"/>
          <p:cNvSpPr/>
          <p:nvPr/>
        </p:nvSpPr>
        <p:spPr>
          <a:xfrm>
            <a:off x="5257800" y="3124080"/>
            <a:ext cx="396252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Публичные слуш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по проект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</a:rPr>
              <a:t>об исполнении бюдж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533520" y="304920"/>
            <a:ext cx="83818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</a:rPr>
              <a:t>Возможности влияния граждан на состав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9"/>
          <p:cNvSpPr/>
          <p:nvPr/>
        </p:nvSpPr>
        <p:spPr>
          <a:xfrm>
            <a:off x="8089920" y="1486080"/>
            <a:ext cx="533520" cy="1485720"/>
          </a:xfrm>
          <a:prstGeom prst="downArrow">
            <a:avLst>
              <a:gd name="adj1" fmla="val 50000"/>
              <a:gd name="adj2" fmla="val 11781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9"/>
          <p:cNvSpPr/>
          <p:nvPr/>
        </p:nvSpPr>
        <p:spPr>
          <a:xfrm>
            <a:off x="1752480" y="1486080"/>
            <a:ext cx="533520" cy="1485720"/>
          </a:xfrm>
          <a:prstGeom prst="downArrow">
            <a:avLst>
              <a:gd name="adj1" fmla="val 50000"/>
              <a:gd name="adj2" fmla="val 11781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1-12-09T07:42:36Z</dcterms:modified>
  <cp:revision>7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