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D28-9B5B-405A-BF09-F9DA900DB8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421-A356-4145-8DDE-6ECE7C3C8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207-F87F-4FA6-957E-9E3212BA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00E-B452-4C05-8A04-0C51A41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011-1C8D-45CC-AC0D-76823EDD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6F6-2DF3-4BD5-A3C3-48E3036D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01C0-A442-4273-818F-8D1C77C9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99B2-56E4-4D9C-88B7-AB85F79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5E6-AEDF-45BC-892B-7C3E682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40D9-7683-45BD-AF17-3B258D5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861C-0606-4189-85C2-B8E20779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369-A02A-4A45-9E96-362BE04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30F1-5E91-4BBA-BD88-0593531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04C-F093-4FBB-97CD-CA2EA5E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178-0AFD-4A0D-B6B8-6375EF1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B61-6168-43E1-9C20-54C3D0E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F29-01D0-418F-800F-33B492D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6658-D99D-4552-BA82-9110708A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9AE-2F46-429B-B830-BF3CD3D8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E11B-89DD-480F-9DB8-5115B636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5A92-3DC9-4CB6-8160-5DAC0CC0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39D4-EBC1-4F6E-A399-0A247FB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1231-EF95-4E92-A758-B917835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077C-2A2A-4503-942F-0678D740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C4A-9AF2-4BF8-BB55-4ED4523D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71D5-415E-4C65-B313-9B68AFF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FD27-E334-49B0-8FFE-053B090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B453-5B0A-4F60-9A3B-3EB1F13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4A44-C3C4-4DC4-A423-B4CDC85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5D34-E85F-4226-85E2-A17CA4F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44D0-ED60-4312-9532-708353AC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767C-BD9A-4572-81B2-D1378913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1F27-3953-45F9-89F2-FEF0E69A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C254-762A-4B48-935F-EC86B6F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D605-3DCF-4A46-A6E1-D12D020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379-9768-4CE4-956C-B712819D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91EB-B1F3-4890-BCC1-990FACC7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6993-A472-4B59-9ECD-95E4F6E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6ACB-CED3-4622-B2A6-28373BB7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48E8-E2A3-46C8-8E30-983E1AC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A944-A94F-4294-B92E-E0949B1F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42B4-3E44-4958-8D3E-4EC2CA2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3734-267C-4A11-8B4B-5EEEB180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8500-9226-4792-8148-6F158192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0B0F-C580-4C6A-9EBD-566A790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DA7E-B91D-4382-B95D-CAD4F924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583-789C-4E09-B052-175EA732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AD2F-6959-448C-BACE-FA3CB8B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F51C-5605-478D-8862-C5B20FE2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D2BC-97A8-4280-9A78-016D3D8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EA5D-5A01-4407-82E9-EC19E2F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E584-D157-46D7-A7B5-E31298F8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52716-12CB-4088-9D51-989AA11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3A12-CF6B-4BF2-A307-8C76661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9140-EBAD-4A71-89B8-36A6833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B2028-5789-4238-9022-A1CEEC3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84EB-237A-45EC-B847-399A755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1A9-7C00-411C-8769-FF3AA1C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EFA5-78BF-4A73-B8D6-F3FBCA75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30A09-61FE-4FFB-8F32-0754FCC2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6B4FB-9804-442A-85F1-7361AD4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335E1-8F6A-4403-99E7-348117B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F7DEB-CC3A-4732-B9B3-EC522C5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2181B-FEBE-4CAB-9F49-83BAB997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3B45F-0A39-4349-9631-C3A93FF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4F92A-2327-4DA1-BF38-E0DA1D4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90B55-99CD-4FEE-A0F8-5D43861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E96E3-11AF-49FC-95B4-E57F78A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64C-A978-43F9-B5B0-9E1B83DC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B909B-3F3E-4E7D-821D-51670BF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AC29D-F06A-441C-AB0A-497B6D29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31269-2BCC-4A84-A757-99B5E60B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2DA95-130D-4E31-B69E-EF1D0F4C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66A0-CD04-40A7-B12F-E6664F5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750A9-5D34-4577-B40F-C0085AF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B20F-D4CA-4EEE-BA11-EF49EAF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069A-C2DB-4C9C-AE15-770284D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21D8-ED0E-4AAC-B2F5-B4CA445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7CEE-5B0F-4EE1-BF63-61D909B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FF3-9E85-4318-8F00-595EDA5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6722-FB55-4D10-9BFE-1F26BFE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59E1-2D0C-4BAF-AC03-DC7A169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CEC3C-480E-4342-8701-5AC9CF1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90FE4-C1FF-47EC-B08A-1CF1D90B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E220-86C8-4624-AC01-5F0C6529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6F9-F56C-4708-BF40-E39F4948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F608-EF2E-42B7-85EB-FE524F2AE18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078-715C-47D9-832A-F0A8CBA875A8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B5A-3909-41B0-B7DF-D216B528B98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D3D-9E51-4CD2-B490-8B243770829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2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B27-0D4E-48DF-9347-8ECEDC14E64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2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099-2756-4464-88F2-4DC4764D596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53F-5228-4E59-8DEC-14EB05874FF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4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5"/>
          <p:cNvSpPr/>
          <p:nvPr/>
        </p:nvSpPr>
        <p:spPr>
          <a:xfrm rot="10800000">
            <a:off x="228600" y="5028480"/>
            <a:ext cx="8686800" cy="1600200"/>
          </a:xfrm>
          <a:prstGeom prst="wedgeRoundRectCallout">
            <a:avLst>
              <a:gd name="adj1" fmla="val -680"/>
              <a:gd name="adj2" fmla="val 88787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к проекту Решения Собрания депутатов Поповкинского сельсовета Дмитриевского района Курской области «О бюджете муниципального образования «Поповкинский  сельсовет» Курского района на 2022 год и на плановый период 2023-2024 го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152280"/>
            <a:ext cx="9347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БЮДЖЕТ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ДЛЯ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357336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митриевского 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80AA-198C-41D0-8907-147EDAF82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685800" y="201924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форма участия населения в осуществлении местн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амо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444600" y="380880"/>
            <a:ext cx="838188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</a:rPr>
              <a:t>Публичные слушания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9"/>
          <p:cNvSpPr/>
          <p:nvPr/>
        </p:nvSpPr>
        <p:spPr>
          <a:xfrm>
            <a:off x="3848040" y="15238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1" descr="i?id=1ee30bfcfa906dff8767380a7bc64f7d-l&amp;n=13"/>
          <p:cNvPicPr/>
          <p:nvPr/>
        </p:nvPicPr>
        <p:blipFill>
          <a:blip r:embed="rId2"/>
          <a:stretch/>
        </p:blipFill>
        <p:spPr>
          <a:xfrm>
            <a:off x="228600" y="4572000"/>
            <a:ext cx="2971800" cy="1727280"/>
          </a:xfrm>
          <a:prstGeom prst="rect">
            <a:avLst/>
          </a:prstGeom>
          <a:ln w="0">
            <a:noFill/>
          </a:ln>
        </p:spPr>
      </p:pic>
      <p:sp>
        <p:nvSpPr>
          <p:cNvPr id="455" name="AutoShape 11"/>
          <p:cNvSpPr/>
          <p:nvPr/>
        </p:nvSpPr>
        <p:spPr>
          <a:xfrm>
            <a:off x="3276720" y="438156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публичных слушаний – заклю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тором отражаются выраженные позиции ж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йона и рекомендации, сформиро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зультатам публичных слуша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1333440" y="2781360"/>
            <a:ext cx="6400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бличные слушания организуются и провод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целью выявления мнения населения по прое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а на очередной финансовый 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 плановый период) и по отчету об исполнении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7C58-5203-4B4C-AB09-538DA5A37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228600" y="16765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Бюджетном Кодексе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266760" y="25909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Бюджетном послании Президента РФ Федеральному Собранию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1981080" y="304920"/>
            <a:ext cx="579132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Составление проекта бюдже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ывается на …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1"/>
          <p:cNvSpPr/>
          <p:nvPr/>
        </p:nvSpPr>
        <p:spPr>
          <a:xfrm>
            <a:off x="266760" y="32767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ФЗ «Об общих принципах организации местного самоуправления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241200" y="4114800"/>
            <a:ext cx="86868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х направлениях бюджетной и налоговой политики Поповкин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митриевского района Ку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2022 год и на плановый период 2023-2024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"/>
          <p:cNvSpPr/>
          <p:nvPr/>
        </p:nvSpPr>
        <p:spPr>
          <a:xfrm>
            <a:off x="279360" y="5270400"/>
            <a:ext cx="86868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е социально-экономического развития Поповкинского сельсовета Дмитриев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ериод до 202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1EA-E32E-412D-8741-CBC54FFDA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1"/>
          <p:cNvSpPr/>
          <p:nvPr/>
        </p:nvSpPr>
        <p:spPr>
          <a:xfrm>
            <a:off x="406440" y="16621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роста доходов бюджета Поповкинского сельсовета Дмитриевского района за с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я эффективности администрирования действующих налоговых платежей и сбо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343080" y="23623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работы по вовлечению в налоговый оборот отдельны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вижимости, в отношении которых налог на имущество исчисляется исходя из кадастровой стоим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>
            <a:off x="406440" y="38088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налогов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330120" y="3048120"/>
            <a:ext cx="86108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ие мероприятий по повышению эффективности 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ой собственностью, природными ресурсами Поповкинского сельсовета Дмитриев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1" descr="Kakie_peni_za_neuplatu_transportnogo_naloga__6"/>
          <p:cNvPicPr/>
          <p:nvPr/>
        </p:nvPicPr>
        <p:blipFill>
          <a:blip r:embed="rId2"/>
          <a:stretch/>
        </p:blipFill>
        <p:spPr>
          <a:xfrm>
            <a:off x="2819520" y="4572000"/>
            <a:ext cx="3143160" cy="208584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7" descr="i?id=cfd1d00aa0c64425b58075c9c1b9d05c-l&amp;n=13"/>
          <p:cNvPicPr/>
          <p:nvPr/>
        </p:nvPicPr>
        <p:blipFill>
          <a:blip r:embed="rId3"/>
          <a:stretch/>
        </p:blipFill>
        <p:spPr>
          <a:xfrm>
            <a:off x="457200" y="4495680"/>
            <a:ext cx="1353960" cy="2167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1"/>
          <p:cNvSpPr/>
          <p:nvPr/>
        </p:nvSpPr>
        <p:spPr>
          <a:xfrm>
            <a:off x="343080" y="3581280"/>
            <a:ext cx="861048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правовой основы для проведения оцен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йствующих местных налоговых льгот в целях их ежегодного мониторинга и акту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1" descr="242d2"/>
          <p:cNvPicPr/>
          <p:nvPr/>
        </p:nvPicPr>
        <p:blipFill>
          <a:blip r:embed="rId4"/>
          <a:stretch/>
        </p:blipFill>
        <p:spPr>
          <a:xfrm>
            <a:off x="7315200" y="4572000"/>
            <a:ext cx="14986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EB7-2D19-44D1-84FC-0B16BB630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152280" y="220968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долгосрочной сбалансированности и устойчивости бюджетной систе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1"/>
          <p:cNvSpPr/>
          <p:nvPr/>
        </p:nvSpPr>
        <p:spPr>
          <a:xfrm>
            <a:off x="152280" y="251460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ункционирования контрактной систе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533520" y="457200"/>
            <a:ext cx="807696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1"/>
          <p:cNvSpPr/>
          <p:nvPr/>
        </p:nvSpPr>
        <p:spPr>
          <a:xfrm>
            <a:off x="152280" y="2819520"/>
            <a:ext cx="876312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блюдение бюджетно-финансовой дисциплины главными распорядителями и получателями бюджетных сред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/>
          <p:cNvSpPr/>
          <p:nvPr/>
        </p:nvSpPr>
        <p:spPr>
          <a:xfrm>
            <a:off x="152280" y="32004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государственной социальной поддержки граждан на основе приме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а нуждаемости и адре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152280" y="373392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дрение и совершенствование системы ведения реестров расходных обязатель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ных распорядителей средств бюджета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1"/>
          <p:cNvSpPr/>
          <p:nvPr/>
        </p:nvSpPr>
        <p:spPr>
          <a:xfrm>
            <a:off x="152280" y="4267080"/>
            <a:ext cx="876312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бюджета Поповкинского сельсовета Дмитриевского района на основе муниципальных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остижение поставленных целей, для реализации которых имеются необходимые ресур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>
            <a:off x="152280" y="487692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нение всех решений в пределах утвержденных предельных объе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ходов на реализацию муниципальных програм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152280" y="5410080"/>
            <a:ext cx="8763120" cy="30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единой правовой и методической базы для оказания муниципальных услуг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152280" y="5791320"/>
            <a:ext cx="876312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ффективное управление муниципальным долгом Поповкинского сельсовета Дмитриевск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/>
          <p:cNvSpPr/>
          <p:nvPr/>
        </p:nvSpPr>
        <p:spPr>
          <a:xfrm>
            <a:off x="152280" y="61722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«Бюджета для граждан» по проекту бюджета Поповкинского сельсовета и его исполн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оступной для широкого круга заинтересованных пользователей 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D91-53C8-44B0-B1BF-DEC0A4E28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54160" y="1649520"/>
            <a:ext cx="876276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дрение проектных принципов планир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80880" y="213372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опущение кредиторской задолженности по заработной плате и социальным выплата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419040" y="228600"/>
            <a:ext cx="815364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254160" y="2540160"/>
            <a:ext cx="8762760" cy="533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ие дальнейшей работы по повышению эффективности предо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 бюджета Поповкинского сельсовета Дмитриевского района межбюджетных трансфертов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1"/>
          <p:cNvSpPr/>
          <p:nvPr/>
        </p:nvSpPr>
        <p:spPr>
          <a:xfrm>
            <a:off x="228600" y="32004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иление внутреннего муниципального финансового контроля в сфере бюдже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отношений, внутреннего финансового контроля и внутреннего финансового аудита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152280" y="3962520"/>
            <a:ext cx="876312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открытости и прозрачности информации об управлении финанс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, расширение практики общественного учас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 обсуждении и принятии бюджетных реше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152280" y="4724280"/>
            <a:ext cx="86868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ие механизма инициативного бюджетирования предполагающих участие граждан в определен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боре предметов расходования бюджетных средств, а также последующ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оле за реализацией данных проек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152280" y="5562720"/>
            <a:ext cx="8763120" cy="533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качества планирования бюджета Поповкинского сельсовета Дмитриев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76320" y="-36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53352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БЮДЖЕТ</a:t>
            </a:r>
            <a:r>
              <a:rPr b="1" lang="en-US" sz="2500" spc="-1" strike="noStrike">
                <a:solidFill>
                  <a:srgbClr val="564b3c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может бы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3"/>
          <p:cNvSpPr/>
          <p:nvPr/>
        </p:nvSpPr>
        <p:spPr>
          <a:xfrm>
            <a:off x="114480" y="345456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евышение до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д расхода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оложи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"/>
          <p:cNvSpPr/>
          <p:nvPr/>
        </p:nvSpPr>
        <p:spPr>
          <a:xfrm>
            <a:off x="5867280" y="3530520"/>
            <a:ext cx="327672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Если расходная ча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 превышает доходную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отрица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"/>
          <p:cNvSpPr/>
          <p:nvPr/>
        </p:nvSpPr>
        <p:spPr>
          <a:xfrm>
            <a:off x="380880" y="175248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/>
          <p:cNvSpPr/>
          <p:nvPr/>
        </p:nvSpPr>
        <p:spPr>
          <a:xfrm>
            <a:off x="6705720" y="1752480"/>
            <a:ext cx="213336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9"/>
          <p:cNvSpPr/>
          <p:nvPr/>
        </p:nvSpPr>
        <p:spPr>
          <a:xfrm>
            <a:off x="1295280" y="287028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7467480" y="28954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1"/>
          <p:cNvSpPr/>
          <p:nvPr/>
        </p:nvSpPr>
        <p:spPr>
          <a:xfrm>
            <a:off x="3124080" y="175248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БАЛАНСИРОВАН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3619440" y="3505320"/>
            <a:ext cx="198144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ъем рас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ве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ъему дохо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9"/>
          <p:cNvSpPr/>
          <p:nvPr/>
        </p:nvSpPr>
        <p:spPr>
          <a:xfrm>
            <a:off x="4381560" y="2895480"/>
            <a:ext cx="457200" cy="609840"/>
          </a:xfrm>
          <a:prstGeom prst="downArrow">
            <a:avLst>
              <a:gd name="adj1" fmla="val 50000"/>
              <a:gd name="adj2" fmla="val 54188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7F8-ED20-4726-AB45-9BE2CB294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1066680" y="3657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8" descr="деньги (1)"/>
          <p:cNvPicPr/>
          <p:nvPr/>
        </p:nvPicPr>
        <p:blipFill>
          <a:blip r:embed="rId2"/>
          <a:stretch/>
        </p:blipFill>
        <p:spPr>
          <a:xfrm>
            <a:off x="228600" y="5334120"/>
            <a:ext cx="8534520" cy="13716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1"/>
          <p:cNvSpPr/>
          <p:nvPr/>
        </p:nvSpPr>
        <p:spPr>
          <a:xfrm>
            <a:off x="736560" y="304920"/>
            <a:ext cx="79246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езвозмездные и безвозвр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упления денежных средств в бюдж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685800" y="2819520"/>
            <a:ext cx="79246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3"/>
          <p:cNvSpPr/>
          <p:nvPr/>
        </p:nvSpPr>
        <p:spPr>
          <a:xfrm>
            <a:off x="228600" y="35812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3"/>
          <p:cNvSpPr/>
          <p:nvPr/>
        </p:nvSpPr>
        <p:spPr>
          <a:xfrm>
            <a:off x="762120" y="40384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3"/>
          <p:cNvSpPr/>
          <p:nvPr/>
        </p:nvSpPr>
        <p:spPr>
          <a:xfrm>
            <a:off x="1752480" y="45720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3"/>
          <p:cNvSpPr/>
          <p:nvPr/>
        </p:nvSpPr>
        <p:spPr>
          <a:xfrm>
            <a:off x="6858000" y="35812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обствен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3"/>
          <p:cNvSpPr/>
          <p:nvPr/>
        </p:nvSpPr>
        <p:spPr>
          <a:xfrm>
            <a:off x="6400800" y="44197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Регулирующ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6"/>
          <p:cNvSpPr/>
          <p:nvPr/>
        </p:nvSpPr>
        <p:spPr>
          <a:xfrm>
            <a:off x="2133720" y="1523880"/>
            <a:ext cx="5410080" cy="365760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х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B38-AC6D-4860-AC6D-72D293EFF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3816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495360" y="15228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ые доходы бюджета Поповкинского сельсов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доходы, закрепленные на постоянн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ностью или частично за бюдже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 Дмитриевс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" descr="деньги (1)"/>
          <p:cNvPicPr/>
          <p:nvPr/>
        </p:nvPicPr>
        <p:blipFill>
          <a:blip r:embed="rId2"/>
          <a:stretch/>
        </p:blipFill>
        <p:spPr>
          <a:xfrm>
            <a:off x="5715000" y="32004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11"/>
          <p:cNvSpPr/>
          <p:nvPr/>
        </p:nvSpPr>
        <p:spPr>
          <a:xfrm>
            <a:off x="279360" y="2946240"/>
            <a:ext cx="6819840" cy="99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налоговые доходы, зачисляемые в бюджет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ством РФ, законами субъектов РФ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ыми правовыми а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1"/>
          <p:cNvSpPr/>
          <p:nvPr/>
        </p:nvSpPr>
        <p:spPr>
          <a:xfrm>
            <a:off x="291960" y="44197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, полученные бюджетом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возмездных поступ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исключением субв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1"/>
          <p:cNvSpPr/>
          <p:nvPr/>
        </p:nvSpPr>
        <p:spPr>
          <a:xfrm>
            <a:off x="380880" y="1523880"/>
            <a:ext cx="7620120" cy="1067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оговые доходы, зачисляемые в бюджеты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ым законодательством РФ и законодатель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налогах и сб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9"/>
          <p:cNvSpPr/>
          <p:nvPr/>
        </p:nvSpPr>
        <p:spPr>
          <a:xfrm>
            <a:off x="8242200" y="12812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9"/>
          <p:cNvSpPr/>
          <p:nvPr/>
        </p:nvSpPr>
        <p:spPr>
          <a:xfrm rot="5400000">
            <a:off x="8165520" y="198108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9"/>
          <p:cNvSpPr/>
          <p:nvPr/>
        </p:nvSpPr>
        <p:spPr>
          <a:xfrm rot="5400000">
            <a:off x="7441560" y="293364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9"/>
          <p:cNvSpPr/>
          <p:nvPr/>
        </p:nvSpPr>
        <p:spPr>
          <a:xfrm rot="5400000">
            <a:off x="7212960" y="388620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782-6318-4CDC-BDF1-6375CF9D7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5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1"/>
          <p:cNvSpPr/>
          <p:nvPr/>
        </p:nvSpPr>
        <p:spPr>
          <a:xfrm>
            <a:off x="380880" y="7632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Регулирующие доходы бюджета Поповкинского сельсовета Дмитриев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это доходы от федеральных и региональных налогов и иных платеж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по которым устанавливаются нормативы отчислений в процен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местный бюджет на очередной финансовый г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а также на долговременной осн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1"/>
          <p:cNvSpPr/>
          <p:nvPr/>
        </p:nvSpPr>
        <p:spPr>
          <a:xfrm>
            <a:off x="406440" y="2019240"/>
            <a:ext cx="39369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2362320" y="3276720"/>
            <a:ext cx="51814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 на имущество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3505320" y="4572000"/>
            <a:ext cx="53337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9382-3062-413F-B825-807A11280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5079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</a:rPr>
              <a:t>Классификация доходов по источнику поступления, </a:t>
            </a:r>
            <a:br>
              <a:rPr sz="2400"/>
            </a:br>
            <a:r>
              <a:rPr b="1" lang="ru-RU" sz="2400" spc="-1" strike="noStrike">
                <a:solidFill>
                  <a:srgbClr val="564b3c"/>
                </a:solidFill>
                <a:latin typeface="Times New Roman"/>
              </a:rPr>
              <a:t>по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457200" y="17064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Налоговые доходы –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эт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ходы от предусмотренных законодательств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алогах и сборах федеральных налогов и сборов, в том числе от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смотренных специальными налоговыми режимами, региональных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ных налогов и сборов, а также пеней и штрафов по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57200" y="32004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Неналоговые доходы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– это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от использования и продажи имуще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земельных участков, платежи в виде штрафов и санк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плата за негативное воздействие на окружающую сре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546120" y="48006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Безвозмездные поступления – это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поступления в бюд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на безвозмездной и безвозвратной основе из областного бюдже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а также перечисления от физических и юрид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(кроме налоговых и неналоговых доходов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CEEE-2630-4420-9AA0-1468BD34C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52280" y="2209680"/>
            <a:ext cx="883944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64b3c"/>
                </a:solidFill>
                <a:latin typeface="Times New Roman"/>
              </a:rPr>
              <a:t>Уважаемые жители Поповкинского сельсовета Дмитриевского района Курской области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Бюджет для граждан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это упрощенная версия бюджетного документа, которая использует доступные форматы, чтобы облегчить для граждан понимание бюджета, объяснить им планы и действия Администрации Поповкинского сельсовета Дмитриевского района Курской области и показать формы их возможного взаимодействия по вопросам расходования бюдже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Надеемся, что «Бюджет для граждан» Поповкинского сельсовета Дмитриевского района Курской области станет доступным источником для повышения финансовой грамотности жителей района и активизации общественного контроля за муниципальными расходами. Рассчитываем, что наша совместная работа будет способствовать развитию прозрачности и открытости бюджета и бюджетного процесса для граждан</a:t>
            </a:r>
            <a:r>
              <a:rPr b="0" lang="ru-RU" sz="2100" spc="-1" strike="noStrike">
                <a:solidFill>
                  <a:srgbClr val="564b3c"/>
                </a:solidFill>
                <a:latin typeface="Times New Roman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62120" y="533520"/>
            <a:ext cx="7619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Что такое БЮДЖЕТ ДЛЯ ГРАЖДАН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EB15-00E2-4E3B-8D85-36B72095B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1447920" y="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Поповкин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Дмитриевского района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8" descr="очки"/>
          <p:cNvPicPr/>
          <p:nvPr/>
        </p:nvPicPr>
        <p:blipFill>
          <a:blip r:embed="rId2"/>
          <a:stretch/>
        </p:blipFill>
        <p:spPr>
          <a:xfrm>
            <a:off x="0" y="1676520"/>
            <a:ext cx="3733920" cy="260352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2280" y="3962520"/>
            <a:ext cx="8839440" cy="2666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В бюджет Поповкинского сельсовета поступают доходы от у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налога на доходы физических лиц, налога на имущество физических лиц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земельного налога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а также пени и штрафы по 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5867280" y="144792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5E0-C4E9-4F0E-AF2F-B7008AFEC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1828800" y="304920"/>
            <a:ext cx="5867280" cy="99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БЕЗВОЗМЕЗДНЫЕ ПОСТУПЛ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1"/>
          <p:cNvSpPr/>
          <p:nvPr/>
        </p:nvSpPr>
        <p:spPr>
          <a:xfrm>
            <a:off x="380880" y="198108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Дотации</a:t>
            </a: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без опред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конкретной цели 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использования</a:t>
            </a:r>
            <a:r>
              <a:rPr b="0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3352680" y="20700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Суб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на финанс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«переданных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ол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1"/>
          <p:cNvSpPr/>
          <p:nvPr/>
        </p:nvSpPr>
        <p:spPr>
          <a:xfrm>
            <a:off x="6261120" y="1954080"/>
            <a:ext cx="2666880" cy="29718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2971800"/>
              <a:gd name="textAreaBottom" fmla="*/ 2841840 h 2971800"/>
            </a:gdLst>
            <a:ahLst/>
            <a:rect l="textAreaLeft" t="textAreaTop" r="textAreaRight" b="textAreaBottom"/>
            <a:pathLst>
              <a:path w="21600" h="24069">
                <a:moveTo>
                  <a:pt x="3600" y="0"/>
                </a:moveTo>
                <a:arcTo wR="3600" hR="3600" stAng="16200000" swAng="-5400000"/>
                <a:lnTo>
                  <a:pt x="0" y="20469"/>
                </a:lnTo>
                <a:arcTo wR="3600" hR="3600" stAng="10800000" swAng="-5400000"/>
                <a:lnTo>
                  <a:pt x="18000" y="24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Субсидии</a:t>
            </a: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на услов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доле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софинансир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расходов друг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бюджетов</a:t>
            </a:r>
            <a:r>
              <a:rPr b="0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9"/>
          <p:cNvSpPr/>
          <p:nvPr/>
        </p:nvSpPr>
        <p:spPr>
          <a:xfrm>
            <a:off x="4305240" y="14479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9"/>
          <p:cNvSpPr/>
          <p:nvPr/>
        </p:nvSpPr>
        <p:spPr>
          <a:xfrm>
            <a:off x="1828800" y="149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9"/>
          <p:cNvSpPr/>
          <p:nvPr/>
        </p:nvSpPr>
        <p:spPr>
          <a:xfrm>
            <a:off x="6794640" y="1477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427-E61C-452D-86DB-5A8B1EE76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1"/>
          <p:cNvSpPr/>
          <p:nvPr/>
        </p:nvSpPr>
        <p:spPr>
          <a:xfrm>
            <a:off x="63504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Источники финансирования дефицита бюдж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2666880" y="3276720"/>
            <a:ext cx="373392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му бюдж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ой системы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звра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ездной осно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1"/>
          <p:cNvSpPr/>
          <p:nvPr/>
        </p:nvSpPr>
        <p:spPr>
          <a:xfrm>
            <a:off x="6019920" y="2895480"/>
            <a:ext cx="2971800" cy="2590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ем в денежной фор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ой организ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 на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ности с выпл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емщиком проц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льзование зай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1"/>
          <p:cNvSpPr/>
          <p:nvPr/>
        </p:nvSpPr>
        <p:spPr>
          <a:xfrm>
            <a:off x="304920" y="2895480"/>
            <a:ext cx="2743200" cy="2667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ые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щ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и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4343400" y="2895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1371600" y="266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9"/>
          <p:cNvSpPr/>
          <p:nvPr/>
        </p:nvSpPr>
        <p:spPr>
          <a:xfrm>
            <a:off x="7391520" y="2590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304920" y="2133720"/>
            <a:ext cx="25905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/>
          <p:cNvSpPr/>
          <p:nvPr/>
        </p:nvSpPr>
        <p:spPr>
          <a:xfrm>
            <a:off x="3048120" y="2133720"/>
            <a:ext cx="297180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ные кред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других бюдж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ной систем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172200" y="21337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диты креди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04920" y="5791320"/>
            <a:ext cx="8686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В 2022 году и на плановый период 2023-2024 г.г. бюджет Поповкин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планируется сбалансированный (без дефицита), поэт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источники финансирования дефицита бюджета не планируются</a:t>
            </a: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A8D-3957-4096-BF4A-D32B51A74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52280" y="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380880" y="2286000"/>
            <a:ext cx="822960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дол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обязатель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ающие из муниципальных займов (заимствован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х на себя муниципальным образ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й (поручительств), а также принятые на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м образованием обязательства третьи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9"/>
          <p:cNvSpPr/>
          <p:nvPr/>
        </p:nvSpPr>
        <p:spPr>
          <a:xfrm>
            <a:off x="4114800" y="1523880"/>
            <a:ext cx="457200" cy="762120"/>
          </a:xfrm>
          <a:prstGeom prst="downArrow">
            <a:avLst>
              <a:gd name="adj1" fmla="val 50000"/>
              <a:gd name="adj2" fmla="val 2500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419040" y="609480"/>
            <a:ext cx="83822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Муниципальный долг Поповкинского сельсов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1752480" y="4495680"/>
            <a:ext cx="5943600" cy="2210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!!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ельный объем муниципального д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должен превышать утвержденный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овой объем доходов мест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 учета утвержденного объема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й и (или) поступлений налог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ов по дополнительным нормати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исл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1066680" y="380880"/>
            <a:ext cx="777240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Arial"/>
              </a:rPr>
              <a:t>Предельный объем и 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Arial"/>
              </a:rPr>
              <a:t>муниципального долга 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2895480" y="1663560"/>
            <a:ext cx="396252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муниципальн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660240" y="30481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4000680" y="30481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7505640" y="30481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1"/>
          <p:cNvSpPr/>
          <p:nvPr/>
        </p:nvSpPr>
        <p:spPr>
          <a:xfrm>
            <a:off x="40006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5842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7518240" y="41022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7"/>
          <p:cNvSpPr/>
          <p:nvPr/>
        </p:nvSpPr>
        <p:spPr>
          <a:xfrm rot="5400000">
            <a:off x="117432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7"/>
          <p:cNvSpPr/>
          <p:nvPr/>
        </p:nvSpPr>
        <p:spPr>
          <a:xfrm rot="5400000">
            <a:off x="451476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7"/>
          <p:cNvSpPr/>
          <p:nvPr/>
        </p:nvSpPr>
        <p:spPr>
          <a:xfrm rot="5400000">
            <a:off x="807048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1981080" y="5334120"/>
            <a:ext cx="6019920" cy="12952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2022 году и на плановый период 2023-2024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чение заемных средств в бюд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не план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1752480" y="487692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2585-D6F7-4DB5-B475-2BD8BE7BB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Темпы ро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нда заработной 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ботников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митриевского район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ериод 2022-2024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0"/>
          <p:cNvSpPr/>
          <p:nvPr/>
        </p:nvSpPr>
        <p:spPr>
          <a:xfrm>
            <a:off x="5410080" y="182880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ся для прогнозирования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юджет Поповкинского сельсовета Дмитриевского района от уплаты налога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1828800" y="495288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328-05FE-4A99-AFAB-7A26D2734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Индексы-дефлят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оптовых цен продук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сельского хозяй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митриевского рай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ериод 2022-2024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5410080" y="175248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ся для прогнозирования доходов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латы  единого сельскохозяйственного н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юджет Поповкинского сельсовета Дмитри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53D-70E5-40EC-A17A-1D2CC55F7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609480" y="228600"/>
            <a:ext cx="815364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сновные параметры проект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на 2022 год и плановый период 2023-2024 г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304920" y="2057400"/>
            <a:ext cx="2361960" cy="1295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/>
          <p:cNvSpPr/>
          <p:nvPr/>
        </p:nvSpPr>
        <p:spPr>
          <a:xfrm>
            <a:off x="3670200" y="2247840"/>
            <a:ext cx="198144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551 450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1"/>
          <p:cNvSpPr/>
          <p:nvPr/>
        </p:nvSpPr>
        <p:spPr>
          <a:xfrm>
            <a:off x="228600" y="3898800"/>
            <a:ext cx="2438280" cy="1130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04920" y="56386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1"/>
          <p:cNvSpPr/>
          <p:nvPr/>
        </p:nvSpPr>
        <p:spPr>
          <a:xfrm>
            <a:off x="6756480" y="213372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625 3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5829480" y="2666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1"/>
          <p:cNvSpPr/>
          <p:nvPr/>
        </p:nvSpPr>
        <p:spPr>
          <a:xfrm>
            <a:off x="5867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619440" y="381636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93 093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6781680" y="380376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93 093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5829480" y="4254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5"/>
          <p:cNvSpPr/>
          <p:nvPr/>
        </p:nvSpPr>
        <p:spPr>
          <a:xfrm>
            <a:off x="582948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1"/>
          <p:cNvSpPr/>
          <p:nvPr/>
        </p:nvSpPr>
        <p:spPr>
          <a:xfrm>
            <a:off x="3645000" y="54482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068 46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1"/>
          <p:cNvSpPr/>
          <p:nvPr/>
        </p:nvSpPr>
        <p:spPr>
          <a:xfrm>
            <a:off x="6794640" y="5486400"/>
            <a:ext cx="190476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68 46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8"/>
          <p:cNvSpPr/>
          <p:nvPr/>
        </p:nvSpPr>
        <p:spPr>
          <a:xfrm>
            <a:off x="5829480" y="5943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9"/>
          <p:cNvSpPr/>
          <p:nvPr/>
        </p:nvSpPr>
        <p:spPr>
          <a:xfrm>
            <a:off x="5829480" y="6388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7"/>
          <p:cNvSpPr/>
          <p:nvPr/>
        </p:nvSpPr>
        <p:spPr>
          <a:xfrm>
            <a:off x="2666880" y="2666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37"/>
          <p:cNvSpPr/>
          <p:nvPr/>
        </p:nvSpPr>
        <p:spPr>
          <a:xfrm>
            <a:off x="2819520" y="4254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7"/>
          <p:cNvSpPr/>
          <p:nvPr/>
        </p:nvSpPr>
        <p:spPr>
          <a:xfrm>
            <a:off x="2819520" y="6095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3695760" y="22478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625 3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0A6C-04FB-4D58-AD8A-D7A9AF3AB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76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ДОХОДЫ БЮДЖЕТА </a:t>
            </a:r>
            <a:br>
              <a:rPr sz="3200"/>
            </a:b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</a:t>
            </a:r>
            <a:r>
              <a:rPr b="1" i="1" lang="ru-RU" sz="2400" spc="-1" strike="noStrike">
                <a:solidFill>
                  <a:srgbClr val="564b3c"/>
                </a:solidFill>
                <a:latin typeface="Times New Roman"/>
              </a:rPr>
              <a:t> НА 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1"/>
          <p:cNvSpPr/>
          <p:nvPr/>
        </p:nvSpPr>
        <p:spPr>
          <a:xfrm>
            <a:off x="6705720" y="13716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63"/>
          <p:cNvSpPr/>
          <p:nvPr/>
        </p:nvSpPr>
        <p:spPr>
          <a:xfrm>
            <a:off x="73152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Иные 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трансфе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иму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 flipH="1">
            <a:off x="5943240" y="2590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00"/>
          <p:cNvSpPr/>
          <p:nvPr/>
        </p:nvSpPr>
        <p:spPr>
          <a:xfrm flipH="1" flipV="1">
            <a:off x="5714640" y="4495680"/>
            <a:ext cx="16002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1"/>
          <p:cNvSpPr/>
          <p:nvPr/>
        </p:nvSpPr>
        <p:spPr>
          <a:xfrm flipH="1">
            <a:off x="5943600" y="38862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5"/>
          <p:cNvSpPr/>
          <p:nvPr/>
        </p:nvSpPr>
        <p:spPr>
          <a:xfrm>
            <a:off x="2819520" y="476244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6"/>
          <p:cNvSpPr/>
          <p:nvPr/>
        </p:nvSpPr>
        <p:spPr>
          <a:xfrm flipV="1">
            <a:off x="2743200" y="3123720"/>
            <a:ext cx="13716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7"/>
          <p:cNvSpPr/>
          <p:nvPr/>
        </p:nvSpPr>
        <p:spPr>
          <a:xfrm>
            <a:off x="2743200" y="1714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34B-7101-4D51-98B3-D31895EC0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94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ДОХОДЫ БЮДЖЕТА </a:t>
            </a:r>
            <a:br>
              <a:rPr sz="3200"/>
            </a:br>
            <a:r>
              <a:rPr b="1" i="1" lang="ru-RU" sz="2400" spc="-1" strike="noStrike">
                <a:solidFill>
                  <a:srgbClr val="564b3c"/>
                </a:solidFill>
                <a:latin typeface="Times New Roman"/>
              </a:rPr>
              <a:t>НОВОПОСЕЛЕНОВСКОГО СЕЛЬСОВЕТА НА 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61"/>
          <p:cNvSpPr/>
          <p:nvPr/>
        </p:nvSpPr>
        <p:spPr>
          <a:xfrm>
            <a:off x="6705720" y="13716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3"/>
          <p:cNvSpPr/>
          <p:nvPr/>
        </p:nvSpPr>
        <p:spPr>
          <a:xfrm>
            <a:off x="73152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Иные 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трансфе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иму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9"/>
          <p:cNvSpPr/>
          <p:nvPr/>
        </p:nvSpPr>
        <p:spPr>
          <a:xfrm flipH="1">
            <a:off x="5943240" y="2590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0"/>
          <p:cNvSpPr/>
          <p:nvPr/>
        </p:nvSpPr>
        <p:spPr>
          <a:xfrm flipH="1" flipV="1">
            <a:off x="5714640" y="4495680"/>
            <a:ext cx="16002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01"/>
          <p:cNvSpPr/>
          <p:nvPr/>
        </p:nvSpPr>
        <p:spPr>
          <a:xfrm flipH="1">
            <a:off x="5943600" y="38862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5"/>
          <p:cNvSpPr/>
          <p:nvPr/>
        </p:nvSpPr>
        <p:spPr>
          <a:xfrm>
            <a:off x="2819520" y="476244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6"/>
          <p:cNvSpPr/>
          <p:nvPr/>
        </p:nvSpPr>
        <p:spPr>
          <a:xfrm flipV="1">
            <a:off x="2743200" y="3123720"/>
            <a:ext cx="13716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7"/>
          <p:cNvSpPr/>
          <p:nvPr/>
        </p:nvSpPr>
        <p:spPr>
          <a:xfrm>
            <a:off x="2743200" y="1714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BFD-F7B6-4D04-906A-37C3EC9ED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609480" y="2133720"/>
            <a:ext cx="792504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я и расходования денежных средст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назначенных для финансового обеспечения задач и функ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2209680" y="68580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Что такое БЮДЖЕ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04920" y="3352680"/>
            <a:ext cx="297180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юджет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(нало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и и сб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возмез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867280" y="3352680"/>
            <a:ext cx="304812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лачив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юджета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на содер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, ЖК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0_image_2274_1"/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0D3-9715-4442-B878-5FC28C2E3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457200" y="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Расходы бюдже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это выплачиваемые из бюджета 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направляемые на финансовое обеспечение задач и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государства и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13" descr="деньги (1)"/>
          <p:cNvPicPr/>
          <p:nvPr/>
        </p:nvPicPr>
        <p:blipFill>
          <a:blip r:embed="rId2"/>
          <a:stretch/>
        </p:blipFill>
        <p:spPr>
          <a:xfrm>
            <a:off x="533520" y="297180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23"/>
          <p:cNvSpPr/>
          <p:nvPr/>
        </p:nvSpPr>
        <p:spPr>
          <a:xfrm>
            <a:off x="152280" y="4343400"/>
            <a:ext cx="289584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ункцион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3"/>
          <p:cNvSpPr/>
          <p:nvPr/>
        </p:nvSpPr>
        <p:spPr>
          <a:xfrm>
            <a:off x="3276720" y="4343400"/>
            <a:ext cx="259056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едомствен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9"/>
          <p:cNvSpPr/>
          <p:nvPr/>
        </p:nvSpPr>
        <p:spPr>
          <a:xfrm>
            <a:off x="236232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9"/>
          <p:cNvSpPr/>
          <p:nvPr/>
        </p:nvSpPr>
        <p:spPr>
          <a:xfrm>
            <a:off x="43434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095880" y="4343400"/>
            <a:ext cx="281952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Экономиче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3"/>
          <p:cNvSpPr/>
          <p:nvPr/>
        </p:nvSpPr>
        <p:spPr>
          <a:xfrm>
            <a:off x="2057400" y="3200400"/>
            <a:ext cx="51814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9"/>
          <p:cNvSpPr/>
          <p:nvPr/>
        </p:nvSpPr>
        <p:spPr>
          <a:xfrm>
            <a:off x="64008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46EE-09CB-4D3A-ABD0-BFF147F0F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33520" y="22860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Функциональ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4" descr="герб"/>
          <p:cNvPicPr/>
          <p:nvPr/>
        </p:nvPicPr>
        <p:blipFill>
          <a:blip r:embed="rId2"/>
          <a:stretch/>
        </p:blipFill>
        <p:spPr>
          <a:xfrm>
            <a:off x="152280" y="2819520"/>
            <a:ext cx="1752840" cy="1162080"/>
          </a:xfrm>
          <a:prstGeom prst="rect">
            <a:avLst/>
          </a:prstGeom>
          <a:ln w="0">
            <a:noFill/>
          </a:ln>
        </p:spPr>
      </p:pic>
      <p:sp>
        <p:nvSpPr>
          <p:cNvPr id="731" name="AutoShape 61"/>
          <p:cNvSpPr/>
          <p:nvPr/>
        </p:nvSpPr>
        <p:spPr>
          <a:xfrm>
            <a:off x="304920" y="41148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щегосударствен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1"/>
          <p:cNvSpPr/>
          <p:nvPr/>
        </p:nvSpPr>
        <p:spPr>
          <a:xfrm>
            <a:off x="41148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Социальная поли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1"/>
          <p:cNvSpPr/>
          <p:nvPr/>
        </p:nvSpPr>
        <p:spPr>
          <a:xfrm>
            <a:off x="2133720" y="61722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ор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1"/>
          <p:cNvSpPr/>
          <p:nvPr/>
        </p:nvSpPr>
        <p:spPr>
          <a:xfrm>
            <a:off x="38088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ульту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инемат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61"/>
          <p:cNvSpPr/>
          <p:nvPr/>
        </p:nvSpPr>
        <p:spPr>
          <a:xfrm>
            <a:off x="65530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Жилищ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оммунально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хозяй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3" descr="экономика"/>
          <p:cNvPicPr/>
          <p:nvPr/>
        </p:nvPicPr>
        <p:blipFill>
          <a:blip r:embed="rId3"/>
          <a:stretch/>
        </p:blipFill>
        <p:spPr>
          <a:xfrm>
            <a:off x="4038480" y="2895480"/>
            <a:ext cx="1447920" cy="1079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4" descr="камера"/>
          <p:cNvPicPr/>
          <p:nvPr/>
        </p:nvPicPr>
        <p:blipFill>
          <a:blip r:embed="rId4"/>
          <a:stretch/>
        </p:blipFill>
        <p:spPr>
          <a:xfrm>
            <a:off x="2057400" y="2895480"/>
            <a:ext cx="1752480" cy="989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5" descr="котельная"/>
          <p:cNvPicPr/>
          <p:nvPr/>
        </p:nvPicPr>
        <p:blipFill>
          <a:blip r:embed="rId5"/>
          <a:stretch/>
        </p:blipFill>
        <p:spPr>
          <a:xfrm>
            <a:off x="6477120" y="28954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7" descr="культура"/>
          <p:cNvPicPr/>
          <p:nvPr/>
        </p:nvPicPr>
        <p:blipFill>
          <a:blip r:embed="rId6"/>
          <a:stretch/>
        </p:blipFill>
        <p:spPr>
          <a:xfrm>
            <a:off x="304920" y="4572000"/>
            <a:ext cx="1571400" cy="1555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8" descr="отлов"/>
          <p:cNvPicPr/>
          <p:nvPr/>
        </p:nvPicPr>
        <p:blipFill>
          <a:blip r:embed="rId7"/>
          <a:stretch/>
        </p:blipFill>
        <p:spPr>
          <a:xfrm>
            <a:off x="2057400" y="46483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61"/>
          <p:cNvSpPr/>
          <p:nvPr/>
        </p:nvSpPr>
        <p:spPr>
          <a:xfrm>
            <a:off x="66294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Физкультура и 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1" descr="спортзал"/>
          <p:cNvPicPr/>
          <p:nvPr/>
        </p:nvPicPr>
        <p:blipFill>
          <a:blip r:embed="rId8"/>
          <a:stretch/>
        </p:blipFill>
        <p:spPr>
          <a:xfrm>
            <a:off x="6934320" y="4648320"/>
            <a:ext cx="1038240" cy="10922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4" descr="пенсионеры"/>
          <p:cNvPicPr/>
          <p:nvPr/>
        </p:nvPicPr>
        <p:blipFill>
          <a:blip r:embed="rId9"/>
          <a:stretch/>
        </p:blipFill>
        <p:spPr>
          <a:xfrm>
            <a:off x="4064040" y="4648320"/>
            <a:ext cx="1625400" cy="121896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61"/>
          <p:cNvSpPr/>
          <p:nvPr/>
        </p:nvSpPr>
        <p:spPr>
          <a:xfrm>
            <a:off x="40384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эконо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1"/>
          <p:cNvSpPr/>
          <p:nvPr/>
        </p:nvSpPr>
        <p:spPr>
          <a:xfrm>
            <a:off x="2057400" y="39625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безопасность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правоохраните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11"/>
          <p:cNvSpPr/>
          <p:nvPr/>
        </p:nvSpPr>
        <p:spPr>
          <a:xfrm>
            <a:off x="380880" y="304920"/>
            <a:ext cx="86108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Ведомствен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61"/>
          <p:cNvSpPr/>
          <p:nvPr/>
        </p:nvSpPr>
        <p:spPr>
          <a:xfrm>
            <a:off x="1066680" y="4343400"/>
            <a:ext cx="7315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я Поповкин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70"/>
          <p:cNvSpPr/>
          <p:nvPr/>
        </p:nvSpPr>
        <p:spPr>
          <a:xfrm>
            <a:off x="609480" y="2590920"/>
            <a:ext cx="8229600" cy="990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анная классификация непосредственно связана со структурой управления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на отображает группировку юридических лиц, получающих бюджетны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редства (это главные распорядители средств бюдже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0"/>
          <p:cNvSpPr/>
          <p:nvPr/>
        </p:nvSpPr>
        <p:spPr>
          <a:xfrm>
            <a:off x="41911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0ABE-950F-47EA-8550-B720C20B5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1"/>
          <p:cNvSpPr/>
          <p:nvPr/>
        </p:nvSpPr>
        <p:spPr>
          <a:xfrm>
            <a:off x="685800" y="30492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Экономическ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0"/>
          <p:cNvSpPr/>
          <p:nvPr/>
        </p:nvSpPr>
        <p:spPr>
          <a:xfrm>
            <a:off x="533520" y="2819520"/>
            <a:ext cx="8229600" cy="3200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анная классификация показывает 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сходов государства на текущие и капитальны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 также на выплату заработной пл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материальные затр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риобретение товаров и услу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7203-26C7-4DDE-B03B-0BAA72736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/>
          <p:cNvSpPr/>
          <p:nvPr/>
        </p:nvSpPr>
        <p:spPr>
          <a:xfrm>
            <a:off x="495360" y="4572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Общегосударственные вопросы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3200400" y="2971800"/>
            <a:ext cx="2819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1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1"/>
          <p:cNvSpPr/>
          <p:nvPr/>
        </p:nvSpPr>
        <p:spPr>
          <a:xfrm>
            <a:off x="40644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84 204,00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1"/>
          <p:cNvSpPr/>
          <p:nvPr/>
        </p:nvSpPr>
        <p:spPr>
          <a:xfrm>
            <a:off x="152280" y="4495680"/>
            <a:ext cx="883944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Общегосударственные вопросы» включаются расходы на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функционирования Главы Поповкинского сельсовета Дмитриевского района, функцион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и Поповкинского сельсовета Дмитриевского район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другие общегосударственные вопросы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3581280" y="380988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73 711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1"/>
          <p:cNvSpPr/>
          <p:nvPr/>
        </p:nvSpPr>
        <p:spPr>
          <a:xfrm>
            <a:off x="640080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73 711,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9"/>
          <p:cNvSpPr/>
          <p:nvPr/>
        </p:nvSpPr>
        <p:spPr>
          <a:xfrm>
            <a:off x="426708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29"/>
          <p:cNvSpPr/>
          <p:nvPr/>
        </p:nvSpPr>
        <p:spPr>
          <a:xfrm>
            <a:off x="708660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93E-DE1E-4C64-AB8B-8B81B1C7F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1"/>
          <p:cNvSpPr/>
          <p:nvPr/>
        </p:nvSpPr>
        <p:spPr>
          <a:xfrm>
            <a:off x="380880" y="304920"/>
            <a:ext cx="853452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безопасность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равоохранительная дея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6858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457200" y="4495680"/>
            <a:ext cx="83818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бюджета Поповкинского сельсовета Дмитриевского района 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товаров, работ и услуг в области гражданской обороны, защиты 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от чрезвычайных ситуаций, безопасности людей на водных объектах, пожарной безопас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/>
          <p:cNvSpPr/>
          <p:nvPr/>
        </p:nvSpPr>
        <p:spPr>
          <a:xfrm>
            <a:off x="6502320" y="327672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A60C-ED75-43DF-8734-ED91A2A01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1"/>
          <p:cNvSpPr/>
          <p:nvPr/>
        </p:nvSpPr>
        <p:spPr>
          <a:xfrm>
            <a:off x="380880" y="304920"/>
            <a:ext cx="853452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безопасность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равоохранительная дея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6858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1"/>
          <p:cNvSpPr/>
          <p:nvPr/>
        </p:nvSpPr>
        <p:spPr>
          <a:xfrm>
            <a:off x="457200" y="4495680"/>
            <a:ext cx="83818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бюджета Поповкинского сельсовета Дмитриевского района 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товаров, работ и услуг в области гражданской обороны, защиты 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от чрезвычайных ситуаций, безопасности людей на водных объектах, пожарной безопас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1"/>
          <p:cNvSpPr/>
          <p:nvPr/>
        </p:nvSpPr>
        <p:spPr>
          <a:xfrm>
            <a:off x="6502320" y="327672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93B-4FED-4C46-A856-BD4F54D0B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/>
          <p:cNvSpPr/>
          <p:nvPr/>
        </p:nvSpPr>
        <p:spPr>
          <a:xfrm>
            <a:off x="343080" y="457200"/>
            <a:ext cx="853416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Жилищно-коммунальное хозяйство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1"/>
          <p:cNvSpPr/>
          <p:nvPr/>
        </p:nvSpPr>
        <p:spPr>
          <a:xfrm>
            <a:off x="762120" y="325116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80 0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1"/>
          <p:cNvSpPr/>
          <p:nvPr/>
        </p:nvSpPr>
        <p:spPr>
          <a:xfrm>
            <a:off x="380880" y="4495680"/>
            <a:ext cx="845820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«Жилищно-коммунальное хозяйство» включаются расходы на мероприят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благоустройству территории населенных пунктов, содержанию мест захорон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создание условий для массового отдыха жителей поселения и организация об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мест массового отдыха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 206 678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654048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 502 719,00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54AB-E718-443E-BD7A-62B6E92DC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11"/>
          <p:cNvSpPr/>
          <p:nvPr/>
        </p:nvSpPr>
        <p:spPr>
          <a:xfrm>
            <a:off x="495360" y="49536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Культура, кинематограф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40 051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1"/>
          <p:cNvSpPr/>
          <p:nvPr/>
        </p:nvSpPr>
        <p:spPr>
          <a:xfrm>
            <a:off x="380880" y="4191120"/>
            <a:ext cx="8458200" cy="2514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Культура, кинематография» включаются расходы на оплату труда рабо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учреждений культуры, расходы на проведение конкурсов и выездных мероприят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закупку музыкальных инструментов и другие расход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127 112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32 576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8844-CCDA-47DF-AE7C-1A18021C8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1"/>
          <p:cNvSpPr/>
          <p:nvPr/>
        </p:nvSpPr>
        <p:spPr>
          <a:xfrm>
            <a:off x="380880" y="45720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Социальная политик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380880" y="44197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Социальная политика» включаются расходы на выплату пенсий за выслугу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и доплату к пенсиям муниципальных служащих, на выплату единоврем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социальной выплаты при рождении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2347-34C0-47FC-B334-5BF0635D2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304920" y="2895480"/>
            <a:ext cx="190476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1"/>
          <p:cNvSpPr/>
          <p:nvPr/>
        </p:nvSpPr>
        <p:spPr>
          <a:xfrm>
            <a:off x="5257800" y="2895480"/>
            <a:ext cx="37339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419040" y="304920"/>
            <a:ext cx="83822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Какие бывают бюджеты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5257800" y="39625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2286000" y="2895480"/>
            <a:ext cx="289548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 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5791320" y="49528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6858000" y="5943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9"/>
          <p:cNvSpPr/>
          <p:nvPr/>
        </p:nvSpPr>
        <p:spPr>
          <a:xfrm>
            <a:off x="5943600" y="37339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9"/>
          <p:cNvSpPr/>
          <p:nvPr/>
        </p:nvSpPr>
        <p:spPr>
          <a:xfrm>
            <a:off x="7162920" y="38098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9"/>
          <p:cNvSpPr/>
          <p:nvPr/>
        </p:nvSpPr>
        <p:spPr>
          <a:xfrm>
            <a:off x="8001000" y="3809880"/>
            <a:ext cx="380880" cy="2133720"/>
          </a:xfrm>
          <a:prstGeom prst="downArrow">
            <a:avLst>
              <a:gd name="adj1" fmla="val 50000"/>
              <a:gd name="adj2" fmla="val 140052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9"/>
          <p:cNvSpPr/>
          <p:nvPr/>
        </p:nvSpPr>
        <p:spPr>
          <a:xfrm>
            <a:off x="3429000" y="38098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9" descr="LEFaKxFvcWI"/>
          <p:cNvPicPr/>
          <p:nvPr/>
        </p:nvPicPr>
        <p:blipFill>
          <a:blip r:embed="rId2"/>
          <a:stretch/>
        </p:blipFill>
        <p:spPr>
          <a:xfrm>
            <a:off x="0" y="4753080"/>
            <a:ext cx="2590920" cy="210492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11"/>
          <p:cNvSpPr/>
          <p:nvPr/>
        </p:nvSpPr>
        <p:spPr>
          <a:xfrm>
            <a:off x="2057400" y="4952880"/>
            <a:ext cx="3505320" cy="8384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бюджетных фонд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DD0-B74D-4AE4-8A81-8E960F099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457200" y="3049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Физическая культура и спорт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1"/>
          <p:cNvSpPr/>
          <p:nvPr/>
        </p:nvSpPr>
        <p:spPr>
          <a:xfrm>
            <a:off x="228600" y="4419720"/>
            <a:ext cx="861048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 раздел «Физическая культура и спорт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на создание условий, обеспечивающих повышение мотивации ж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к занятиям физической культурой и 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5C13-3D96-43D5-8DDC-4649FED7D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1"/>
          <p:cNvSpPr/>
          <p:nvPr/>
        </p:nvSpPr>
        <p:spPr>
          <a:xfrm>
            <a:off x="533520" y="30492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сходные обязательств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оповкинского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1"/>
          <p:cNvSpPr/>
          <p:nvPr/>
        </p:nvSpPr>
        <p:spPr>
          <a:xfrm>
            <a:off x="228600" y="1706400"/>
            <a:ext cx="8686800" cy="5380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ход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это возникающие на основе закон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ого нормативного правового акта, договора или соглашения обязан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о-правового образования или действующего от его имени бюджетного учрежд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оставить физическому или юридическому лицу, иному публично-правовому образова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редства из соответствующего бюдже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возникающие на основе закона, иного нормативного правового ак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о-правового образования перед физическим или юрид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публично-правовым образованием, подлежащие исполнению в установленн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им законом, иным нормативным правовым актом размере ил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меющие установленный указанным законом, актом порядок его опреде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 норматив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публичные обязательства перед физ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лежащие исполнению 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актом размере или имеющие установленный порядок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дексаци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C28-F907-47C7-8B07-3E84E2183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609480" y="304920"/>
            <a:ext cx="81536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еестр расходных обязатель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228600" y="2019240"/>
            <a:ext cx="8686800" cy="4496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целях надлежащего контроля за осуществлением расходных обязательств 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рганы государственной и муниципальной власти возложена обязанность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едению реестра расходных обязательст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естр расходных обязательств,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используемый при составлении проекта бюджет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вод (перечень) законов, иных нормативных правовых акт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х правовых актов, обуславливающих публичные нормативные обязательства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или) правовые основания для иных расходных обязательств с указание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их положений (статей, частей, пунктов, подпунктов, абзацев) законов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х нормативных правовых актов с оценкой объёмов бюджетных ассигнова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обходимых для исполнения включённых в реестр обязательств. 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438-8E38-48D8-A709-96FAD4D87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1"/>
          <p:cNvSpPr/>
          <p:nvPr/>
        </p:nvSpPr>
        <p:spPr>
          <a:xfrm>
            <a:off x="533520" y="48276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обязательств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685800" y="1890720"/>
            <a:ext cx="8153280" cy="44956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 норматив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– эт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ые обязательства перед физическим лицом, подлежащие исполне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актом размере или имеющ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становленный порядок его индексации, за исключением выплат физическому лиц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усмотренных статусом государственных (муниципальных) служащих, а также лиц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замещающих государственные должности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осударственные должности субъектов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е должности, работников казенных учрежд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оеннослужащих, проходящих военную службу по призыв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обладающих статусом военнослужащих, проходящих военную службу по призыву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лиц, обучающихся в государственных или муниципальных организация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72A-C844-4EBD-9CCA-FBA0E8626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/>
          <p:cNvSpPr/>
          <p:nvPr/>
        </p:nvSpPr>
        <p:spPr>
          <a:xfrm>
            <a:off x="647640" y="571680"/>
            <a:ext cx="815364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2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1"/>
          <p:cNvSpPr/>
          <p:nvPr/>
        </p:nvSpPr>
        <p:spPr>
          <a:xfrm>
            <a:off x="7010280" y="289548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1"/>
          <p:cNvSpPr/>
          <p:nvPr/>
        </p:nvSpPr>
        <p:spPr>
          <a:xfrm>
            <a:off x="152280" y="251460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FD9-8852-4A24-A909-5142602A7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609480" y="1600200"/>
            <a:ext cx="815364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3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7010280" y="2590920"/>
            <a:ext cx="1905120" cy="18288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1"/>
          <p:cNvSpPr/>
          <p:nvPr/>
        </p:nvSpPr>
        <p:spPr>
          <a:xfrm>
            <a:off x="152280" y="2514600"/>
            <a:ext cx="67057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3EB-C8AB-4BC2-8A9D-160027BA5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11"/>
          <p:cNvSpPr/>
          <p:nvPr/>
        </p:nvSpPr>
        <p:spPr>
          <a:xfrm>
            <a:off x="762120" y="457200"/>
            <a:ext cx="815328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4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11"/>
          <p:cNvSpPr/>
          <p:nvPr/>
        </p:nvSpPr>
        <p:spPr>
          <a:xfrm>
            <a:off x="7010280" y="2590920"/>
            <a:ext cx="1905120" cy="20574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057400"/>
              <a:gd name="textAreaBottom" fmla="*/ 1964520 h 2057400"/>
            </a:gdLst>
            <a:ahLst/>
            <a:rect l="textAreaLeft" t="textAreaTop" r="textAreaRight" b="textAreaBottom"/>
            <a:pathLst>
              <a:path w="21600" h="23326">
                <a:moveTo>
                  <a:pt x="3600" y="0"/>
                </a:moveTo>
                <a:arcTo wR="3600" hR="3600" stAng="16200000" swAng="-5400000"/>
                <a:lnTo>
                  <a:pt x="0" y="19726"/>
                </a:lnTo>
                <a:arcTo wR="3600" hR="3600" stAng="10800000" swAng="-5400000"/>
                <a:lnTo>
                  <a:pt x="18000" y="23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1"/>
          <p:cNvSpPr/>
          <p:nvPr/>
        </p:nvSpPr>
        <p:spPr>
          <a:xfrm>
            <a:off x="152280" y="2514600"/>
            <a:ext cx="6705720" cy="228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7"/>
          <p:cNvSpPr/>
          <p:nvPr/>
        </p:nvSpPr>
        <p:spPr>
          <a:xfrm>
            <a:off x="64771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130-AB98-476E-AC4F-C9F85CEBF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317520" y="0"/>
            <a:ext cx="8763120" cy="1371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Муниципальная программ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, определяющий цели и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олитики в определенной сфере, способы их дост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5"/>
          <p:cNvSpPr/>
          <p:nvPr/>
        </p:nvSpPr>
        <p:spPr>
          <a:xfrm>
            <a:off x="228600" y="3048120"/>
            <a:ext cx="2133720" cy="2286000"/>
          </a:xfrm>
          <a:custGeom>
            <a:avLst/>
            <a:gdLst>
              <a:gd name="textAreaLeft" fmla="*/ 118800 w 2133720"/>
              <a:gd name="textAreaRight" fmla="*/ 2014920 w 2133720"/>
              <a:gd name="textAreaTop" fmla="*/ 118800 h 2286000"/>
              <a:gd name="textAreaBottom" fmla="*/ 2167200 h 2286000"/>
            </a:gdLst>
            <a:ahLst/>
            <a:rect l="textAreaLeft" t="textAreaTop" r="textAreaRight" b="textAreaBottom"/>
            <a:pathLst>
              <a:path w="21600" h="23141">
                <a:moveTo>
                  <a:pt x="4114" y="0"/>
                </a:moveTo>
                <a:arcTo wR="4114" hR="4114" stAng="16200000" swAng="-5400000"/>
                <a:lnTo>
                  <a:pt x="0" y="19027"/>
                </a:lnTo>
                <a:arcTo wR="4114" hR="4114" stAng="10800000" swAng="-5400000"/>
                <a:lnTo>
                  <a:pt x="17486" y="23141"/>
                </a:lnTo>
                <a:arcTo wR="4114" hR="4114" stAng="5400000" swAng="-5400000"/>
                <a:lnTo>
                  <a:pt x="21600" y="4114"/>
                </a:lnTo>
                <a:arcTo wR="4114" hR="4114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6"/>
          <p:cNvSpPr/>
          <p:nvPr/>
        </p:nvSpPr>
        <p:spPr>
          <a:xfrm>
            <a:off x="2666880" y="3022560"/>
            <a:ext cx="3810240" cy="2514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я показателей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ом по направ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я программы и сигнализир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плохом или хорошем результа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онирования програм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сти принятия н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7"/>
          <p:cNvSpPr/>
          <p:nvPr/>
        </p:nvSpPr>
        <p:spPr>
          <a:xfrm>
            <a:off x="6781680" y="3086280"/>
            <a:ext cx="2210040" cy="2209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мках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дост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ного програм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1"/>
          <p:cNvSpPr/>
          <p:nvPr/>
        </p:nvSpPr>
        <p:spPr>
          <a:xfrm>
            <a:off x="1828800" y="1714680"/>
            <a:ext cx="579132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Цели формирования муниципальной программ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в рамках бюджетного проце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7"/>
          <p:cNvSpPr/>
          <p:nvPr/>
        </p:nvSpPr>
        <p:spPr>
          <a:xfrm flipH="1">
            <a:off x="1295280" y="23623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8"/>
          <p:cNvSpPr/>
          <p:nvPr/>
        </p:nvSpPr>
        <p:spPr>
          <a:xfrm>
            <a:off x="45720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9"/>
          <p:cNvSpPr/>
          <p:nvPr/>
        </p:nvSpPr>
        <p:spPr>
          <a:xfrm>
            <a:off x="4572000" y="2362320"/>
            <a:ext cx="3276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0A0-DEB7-4D14-9502-315CB7196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11"/>
          <p:cNvSpPr/>
          <p:nvPr/>
        </p:nvSpPr>
        <p:spPr>
          <a:xfrm>
            <a:off x="266760" y="2044800"/>
            <a:ext cx="8610480" cy="3962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 благосостояния граждан - получа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 социальной поддерж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выплате пенсий за выслугу лет и доплат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ям муниципальных служащ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11"/>
          <p:cNvSpPr/>
          <p:nvPr/>
        </p:nvSpPr>
        <p:spPr>
          <a:xfrm>
            <a:off x="304920" y="152280"/>
            <a:ext cx="8534160" cy="106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циальная поддержка граждан Поповкинского сельсовета Дмитриев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 на 2022-2024 г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AFE-848A-48B7-80F3-51056CCEA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1"/>
          <p:cNvSpPr/>
          <p:nvPr/>
        </p:nvSpPr>
        <p:spPr>
          <a:xfrm>
            <a:off x="457200" y="304920"/>
            <a:ext cx="85345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ультуры в Поповкинском сельсовете Дмитриевского района Ку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1"/>
          <p:cNvSpPr/>
          <p:nvPr/>
        </p:nvSpPr>
        <p:spPr>
          <a:xfrm>
            <a:off x="457200" y="1903320"/>
            <a:ext cx="8153280" cy="4114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благоприятных  условий для доступа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льтурным ценностям и творческой реализ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культурного и духовного потенциала  насе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иление влияния культуры на процесс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х преобраз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экономического развития Новопоселеновского сельсов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2 040 051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2 032 576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2 127 112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обеспечению деятель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ение оборудования для учреждений куль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4E4-6DC6-4F82-8786-8BCEABAD5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39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1"/>
          <p:cNvSpPr/>
          <p:nvPr/>
        </p:nvSpPr>
        <p:spPr>
          <a:xfrm>
            <a:off x="533520" y="21337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533520" y="68580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Бюджетная система Р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8" descr="LEFaKxFvcWI"/>
          <p:cNvPicPr/>
          <p:nvPr/>
        </p:nvPicPr>
        <p:blipFill>
          <a:blip r:embed="rId2"/>
          <a:stretch/>
        </p:blipFill>
        <p:spPr>
          <a:xfrm>
            <a:off x="0" y="4753080"/>
            <a:ext cx="2590920" cy="210492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1"/>
          <p:cNvSpPr/>
          <p:nvPr/>
        </p:nvSpPr>
        <p:spPr>
          <a:xfrm>
            <a:off x="304920" y="274320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й бюджет; 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1143000" y="34290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1"/>
          <p:cNvSpPr/>
          <p:nvPr/>
        </p:nvSpPr>
        <p:spPr>
          <a:xfrm>
            <a:off x="1143000" y="3886200"/>
            <a:ext cx="525780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субъектов РФ; бюджеты территор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2362320" y="4572000"/>
            <a:ext cx="190476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2362320" y="5029200"/>
            <a:ext cx="655308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муниципальных районов; бюджеты город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гов; бюджеты внутригородских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ов федерального значения Москвы и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>
            <a:off x="3581280" y="59436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3581280" y="6400800"/>
            <a:ext cx="5334120" cy="3049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городских и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5EDD-6068-403B-8C1D-A2859D205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11"/>
          <p:cNvSpPr/>
          <p:nvPr/>
        </p:nvSpPr>
        <p:spPr>
          <a:xfrm>
            <a:off x="1066680" y="152280"/>
            <a:ext cx="754380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рофилактика правонарушений в муниципальном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повкинский сельсовет» Дмитриевского района К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2022-2024год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368280" y="2019240"/>
            <a:ext cx="8077320" cy="4191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вышение качества и эффективности работы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илактики преступлений и иных правонару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тношении определённых категорий лиц 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ельным видам противоправ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здание условий для профилактики и приостано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а злоупотребления наркотиками и их незаконного оборо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опущения распространения наркомании и связанных с 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ступности и правонару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иобретению информационных стен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титеррористической направленности, а так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вок и плакатов антинаркотической направ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5DF-B704-420C-8299-9C6290492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/>
          <p:cNvSpPr/>
          <p:nvPr/>
        </p:nvSpPr>
        <p:spPr>
          <a:xfrm>
            <a:off x="343080" y="304920"/>
            <a:ext cx="853416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беспечение доступным и комфортным жильем и коммунальными услуг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ждан Поповкинского сельсовета Дмитрие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1"/>
          <p:cNvSpPr/>
          <p:nvPr/>
        </p:nvSpPr>
        <p:spPr>
          <a:xfrm>
            <a:off x="914400" y="1890720"/>
            <a:ext cx="7962840" cy="3886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учшение условий жизни жителей Поповкин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митриев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 2 080 000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 502 719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 206 678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благоустройству, содержанию мест захорон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для массового отдыха жителей поселени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ю обустройства мест массового отдыха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073-F45D-4EF8-8996-4C281FA80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1"/>
          <p:cNvSpPr/>
          <p:nvPr/>
        </p:nvSpPr>
        <p:spPr>
          <a:xfrm>
            <a:off x="228600" y="38160"/>
            <a:ext cx="861048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овышение эффективности работы с молодежью, организация отдых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здоровления детей, молодежи, развитие физической культуры и спор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повкинском сельсовете Дмитриев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1"/>
          <p:cNvSpPr/>
          <p:nvPr/>
        </p:nvSpPr>
        <p:spPr>
          <a:xfrm>
            <a:off x="1143000" y="2209680"/>
            <a:ext cx="7238880" cy="3733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оздание возможностей для успеш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изации и эффективной самореализации молодых люд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воспитание нравственно развитого и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ого юного гражданина Ро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укреплению материа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массов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704-087D-4CD2-A983-76DCF2239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1"/>
          <p:cNvSpPr/>
          <p:nvPr/>
        </p:nvSpPr>
        <p:spPr>
          <a:xfrm>
            <a:off x="457200" y="88920"/>
            <a:ext cx="8534520" cy="120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щита населения и территории от чрезвычайных ситуаций, обесп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жарной безопасности и безопасности людей на водных объек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повкинском сельсовете Дмитриевского района 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1"/>
          <p:cNvSpPr/>
          <p:nvPr/>
        </p:nvSpPr>
        <p:spPr>
          <a:xfrm>
            <a:off x="457200" y="2324160"/>
            <a:ext cx="8153280" cy="3505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комплексной безопас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 от чрезвыча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 природного и техног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2 год – 30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3 год – 15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4 год – 15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едупреждению и ликвид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ствий  чрезвычайных ситуаций и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вичных мер  пожар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95C-6567-4DAE-8BDE-2594E234D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1"/>
          <p:cNvSpPr/>
          <p:nvPr/>
        </p:nvSpPr>
        <p:spPr>
          <a:xfrm>
            <a:off x="457200" y="88920"/>
            <a:ext cx="8534520" cy="120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муниципальной службы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повкинском сельсовете Дмитриевского района 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11"/>
          <p:cNvSpPr/>
          <p:nvPr/>
        </p:nvSpPr>
        <p:spPr>
          <a:xfrm>
            <a:off x="457200" y="2324160"/>
            <a:ext cx="8153280" cy="3505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ффективной системы управления муниципальной службо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ответственности муниципальных служащих за результаты свое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 от чрезвыча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 природного и техног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2 год – 380 051,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3 год – 380 051,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4 год – 380 051,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A12-885D-4499-90DB-72D9BFB37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1"/>
          <p:cNvSpPr/>
          <p:nvPr/>
        </p:nvSpPr>
        <p:spPr>
          <a:xfrm>
            <a:off x="457200" y="2133720"/>
            <a:ext cx="8381880" cy="3809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 ДЛЯ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  ПОПОВКИН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ЬСОВЕТА  ДМИТРИЕВСКОГО РАЙОНА КУ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: Курская обл., Дмитриевский р-н, с.Попов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ЕФОН: 8(47150) 9-12-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 электронной почты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ovkino46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1066680" y="152280"/>
            <a:ext cx="693432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Бюджетная система 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469800" y="2400480"/>
            <a:ext cx="4267440" cy="2133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4" descr="0617_171"/>
          <p:cNvPicPr/>
          <p:nvPr/>
        </p:nvPicPr>
        <p:blipFill>
          <a:blip r:embed="rId1"/>
          <a:stretch/>
        </p:blipFill>
        <p:spPr>
          <a:xfrm>
            <a:off x="6477120" y="2324160"/>
            <a:ext cx="190476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B8D-D3CD-4A19-8967-2A7C38E4E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228600" y="2514600"/>
            <a:ext cx="4267080" cy="1828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деятельность по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 бюджета, его рассмотр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ию, исполнению,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чета об исполнении и его утвер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4724280" y="274320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Стадии бюджетного проце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27936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Бюджетный процес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6" descr="g-cvr-1304120-taxes-840a"/>
          <p:cNvPicPr/>
          <p:nvPr/>
        </p:nvPicPr>
        <p:blipFill>
          <a:blip r:embed="rId2"/>
          <a:stretch/>
        </p:blipFill>
        <p:spPr>
          <a:xfrm>
            <a:off x="457200" y="4495680"/>
            <a:ext cx="3733920" cy="217188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1"/>
          <p:cNvSpPr/>
          <p:nvPr/>
        </p:nvSpPr>
        <p:spPr>
          <a:xfrm>
            <a:off x="4724280" y="35812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зработка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724280" y="419112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ссмотр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4724280" y="480060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Утвержд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4724280" y="54100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Исполнение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1"/>
          <p:cNvSpPr/>
          <p:nvPr/>
        </p:nvSpPr>
        <p:spPr>
          <a:xfrm>
            <a:off x="4724280" y="6019920"/>
            <a:ext cx="426744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ссмотрение и утверждение отч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9"/>
          <p:cNvSpPr/>
          <p:nvPr/>
        </p:nvSpPr>
        <p:spPr>
          <a:xfrm>
            <a:off x="6477120" y="33526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9"/>
          <p:cNvSpPr/>
          <p:nvPr/>
        </p:nvSpPr>
        <p:spPr>
          <a:xfrm>
            <a:off x="6477120" y="39625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477120" y="457200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9"/>
          <p:cNvSpPr/>
          <p:nvPr/>
        </p:nvSpPr>
        <p:spPr>
          <a:xfrm>
            <a:off x="6477120" y="51814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9"/>
          <p:cNvSpPr/>
          <p:nvPr/>
        </p:nvSpPr>
        <p:spPr>
          <a:xfrm>
            <a:off x="6477120" y="57913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F30B-C3B9-453B-9893-91CAA1371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228600" y="2031840"/>
            <a:ext cx="39625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ЖДАН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налогоплательщик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ет форм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ную часть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1"/>
          <p:cNvSpPr/>
          <p:nvPr/>
        </p:nvSpPr>
        <p:spPr>
          <a:xfrm>
            <a:off x="4813200" y="3276720"/>
            <a:ext cx="4191120" cy="2361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ЖДА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х гарантий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ния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КХ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а и друг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х гарантий населени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ходная часть бюдже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1"/>
          <p:cNvSpPr/>
          <p:nvPr/>
        </p:nvSpPr>
        <p:spPr>
          <a:xfrm>
            <a:off x="419040" y="304920"/>
            <a:ext cx="83822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Участие граждан в бюджетном процесс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9" descr="налоги"/>
          <p:cNvPicPr/>
          <p:nvPr/>
        </p:nvPicPr>
        <p:blipFill>
          <a:blip r:embed="rId2"/>
          <a:stretch/>
        </p:blipFill>
        <p:spPr>
          <a:xfrm>
            <a:off x="609480" y="3733920"/>
            <a:ext cx="3429000" cy="284472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29"/>
          <p:cNvSpPr/>
          <p:nvPr/>
        </p:nvSpPr>
        <p:spPr>
          <a:xfrm>
            <a:off x="2019240" y="157464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9"/>
          <p:cNvSpPr/>
          <p:nvPr/>
        </p:nvSpPr>
        <p:spPr>
          <a:xfrm>
            <a:off x="6553080" y="1486080"/>
            <a:ext cx="533520" cy="1752480"/>
          </a:xfrm>
          <a:prstGeom prst="downArrow">
            <a:avLst>
              <a:gd name="adj1" fmla="val 50000"/>
              <a:gd name="adj2" fmla="val 82119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A72-3DDE-4DA5-A3E1-CB156B24C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22860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457200" y="3809880"/>
            <a:ext cx="4114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убличные слуш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 проекту бюдж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5257800" y="3124080"/>
            <a:ext cx="39625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убличные слуш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 проект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об исполнении бюдж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53352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</a:rPr>
              <a:t>Возможности влияния граждан на состав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9"/>
          <p:cNvSpPr/>
          <p:nvPr/>
        </p:nvSpPr>
        <p:spPr>
          <a:xfrm>
            <a:off x="808992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9"/>
          <p:cNvSpPr/>
          <p:nvPr/>
        </p:nvSpPr>
        <p:spPr>
          <a:xfrm>
            <a:off x="175248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11-26T09:47:45Z</dcterms:modified>
  <cp:revision>7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