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C3C9-A654-4EBB-B90B-A933903F1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A968-728C-4FC7-88AB-C01ED68C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E811-2FE9-4FE7-A88A-CB507B286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79A8-EB71-4DAC-982E-9931EA10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7DA1-8406-478B-A72D-215126050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6A7B-C2F5-4183-9D79-B11CD46E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08DE-8766-4532-9F84-A77A59E3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AD3F-5790-41D1-8B37-65C8A541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E611-C7E6-44D0-BB4E-1F1F157A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CA11B-4E74-4EC9-B736-737F7737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40B3-5934-4AC9-B789-BE7F6DEF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16FE-B861-4378-A3BA-425B4131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0CA8-FE18-449D-946C-6C93E90C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A501-3E2D-43F8-AF8B-A9683BBF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5281-BF72-4F33-A15D-BF1A13E9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1648-DB5F-489D-92A2-FC58ABBF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CB58-0714-44CD-9134-348EF5F73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76F7B-5ECC-482B-81E2-5AF06375E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1D864-43F5-46B3-B4EB-7D61BC09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20986-C2CC-46E2-BF95-CE597F9F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D4D74-3AAB-4C88-A26F-A19F58F5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66CE4-DC42-4A7A-B182-AD82DE1B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CA07-D64E-4770-9F9D-5AEFE624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66DBD-C934-4F4C-B35C-66E17F2D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A85C5-E92F-4DF8-99E5-709D9DA6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6F879-A936-4730-91E7-CAE80E28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5E3C9-364A-4FD2-8912-93BFBF47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603AE-9302-4689-ADF9-66B82F06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8FAB9-70DB-4857-8428-5BE1A7713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FAAF1-7BC3-4753-BECC-86403FD25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ABE4C-CE9C-484B-9326-99CF4D548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4A8F7-8899-4392-B414-9AE709BA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35FC7-2089-4F05-913A-844F451C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3EB5-5B52-4FC1-8871-F1A84D71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BC4F6-7714-4B92-A55C-BC0EB2CF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3978B-3E9A-43A8-9F94-BB98F725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D78C0-6869-4768-870D-18237B44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7E9CE-69E2-4E22-9B56-0639E5F0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7DD50-6373-4795-A6FB-434B0C9C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0A7BA-07AF-4A9A-B7D8-472EA139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05E40-F7D0-412F-B5CB-A595CEE1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7BBEC-EEA5-418F-A50A-3502F3CA1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F8C5C-684D-4474-B989-D1541C97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CE3E8-17F4-403E-8C41-0E6142F51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8CD6-BDFD-412B-A145-3634F1F3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F9573-B706-46EC-AB87-AADD512F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10BD8-C432-47A6-887E-13A903F9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3846C-8FC8-46A5-BCD5-4A464F36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06282-6B61-4A02-A865-3A6C193D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ED97E-9900-4B44-B023-83B260C1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FD4F2-F18B-4674-9438-EF5C5070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00986-44C5-4620-8332-387EFBDD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F5CBE-6E8D-4D94-8525-72370EF8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89D33-78F3-4EB6-88A3-EBB43C57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7D1EA-63C3-4444-BC9B-04CE61276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E12A-C612-4071-827D-0DDC26AC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B89CC-1F5D-49F8-9EED-CAB26A7F4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1349B-AE9C-4A98-94B2-821153136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4E5FA-E4ED-41B1-9F1C-4F4389F6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720D6-D338-47D2-A8B3-C5703135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0C0ED-7A28-46AF-BF69-035C1AEB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AFF95-33CD-4220-9629-B0CE1C10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9599A-8E82-412A-9C7E-F7BCD8EA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0F0CB-B9FB-4893-9F1C-2C98CDFB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E6B83-0580-4759-AE59-D94AD7DE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C17F8-236B-4829-91AA-89E75562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0462-B698-47FF-9013-C20BAADE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98D79-1D2B-4907-A096-383BC860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2C7C4-A8EF-417D-BF95-4FD5F38CA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5D5D9-349C-472F-9B23-D71FC3BF7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D622E-6AE5-46A9-9108-E389606F0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61A82-3C94-4E2B-831F-E87CDD10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B6436-B047-4AF7-A869-618D32B3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3013F-BF17-4E9D-A8DB-85DE16DF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DA037-691B-4A04-8E1C-50DB937A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7BA35-1A49-43BC-96DF-1D87D2C7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6FF8F-431B-4738-BFB9-AA0DF6FF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06EC-9138-42C2-9E94-2E4BA2BF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4F4E1-3AE3-42D0-A455-99E89246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0845D-09CE-41CD-8734-741FE344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5E56E-670B-4336-AC44-55803BBB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77D36-CB93-4A45-B0FB-D21A8468C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118EB-4155-4DDB-8D46-AB2AA08D8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BBE7-2602-477F-B8A4-F499BAB5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E621-5358-4694-A48D-1E303C2242D6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7516-CD4B-4603-8572-D6DA4460BF3C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54D9-7F2B-4602-AD68-56AB790B645C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B8D3-4F36-4CC5-A69E-DA3BEDD7B4E9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FFC5-25CF-49D8-8B5E-93CCDA2DC296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9BC9-415A-47FB-BB5A-328B24EDB6A4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9E97-7D34-4566-81FC-5DF38784F6B3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WordArt 5" descr=""/>
          <p:cNvPicPr/>
          <p:nvPr/>
        </p:nvPicPr>
        <p:blipFill>
          <a:blip r:embed="rId1"/>
          <a:stretch/>
        </p:blipFill>
        <p:spPr>
          <a:xfrm>
            <a:off x="165240" y="109440"/>
            <a:ext cx="8875440" cy="659628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12"/>
          <p:cNvSpPr/>
          <p:nvPr/>
        </p:nvSpPr>
        <p:spPr>
          <a:xfrm>
            <a:off x="3276720" y="5589720"/>
            <a:ext cx="2447640" cy="10792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WordArt 13"/>
          <p:cNvSpPr txBox="1"/>
          <p:nvPr/>
        </p:nvSpPr>
        <p:spPr>
          <a:xfrm>
            <a:off x="3708360" y="5877000"/>
            <a:ext cx="1727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016 год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нение бюджета поселения за 2016 год в разрезе функциональной классификации рас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Овал 3"/>
          <p:cNvSpPr/>
          <p:nvPr/>
        </p:nvSpPr>
        <p:spPr>
          <a:xfrm>
            <a:off x="468360" y="1989000"/>
            <a:ext cx="8280360" cy="2376720"/>
          </a:xfrm>
          <a:prstGeom prst="ellipse">
            <a:avLst/>
          </a:prstGeom>
          <a:solidFill>
            <a:srgbClr val="35436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  <a:ea typeface="Times New Roman"/>
              </a:rPr>
              <a:t>Национальная обор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  <a:ea typeface="Times New Roman"/>
              </a:rPr>
              <a:t>(расходы по субвенциям на осуществление первичного воинского учета на территориях, где отсутствуют военные комиссариа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  <a:ea typeface="Times New Roman"/>
              </a:rPr>
              <a:t>67,1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3"/>
          <p:cNvSpPr/>
          <p:nvPr/>
        </p:nvSpPr>
        <p:spPr>
          <a:xfrm>
            <a:off x="106200" y="115920"/>
            <a:ext cx="90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Исполнение бюджета муниципально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«Поповкинский сельсовет» Дмитриевского района Курской области за 2016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4"/>
          <p:cNvSpPr/>
          <p:nvPr/>
        </p:nvSpPr>
        <p:spPr>
          <a:xfrm>
            <a:off x="106200" y="1413000"/>
            <a:ext cx="9037800" cy="38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ция подготовлена на основан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шения Собрания депутатов Поповкинского сельсовета от 19.12.2015 №29 «О бюджете  муниципального образования «Поповкинский сельсовет» Дмитриевского района Курской области  на 2016 год 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шения Собрания депутатов Поповкинского сельсовета от 30.12.2016 №68 «О внесении изменений в решение Собрания депутатов Поповкинского сельсовета  от 19.12.2015 № «О бюджете  муниципального образования «Поповкинский сельсовет» Дмитриевского района  Курской области на 2016 год 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оугольник 3"/>
          <p:cNvSpPr/>
          <p:nvPr/>
        </p:nvSpPr>
        <p:spPr>
          <a:xfrm>
            <a:off x="179280" y="44280"/>
            <a:ext cx="88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новные параметры бюджета муниципального образования «Поповкинский сельсо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митриевского района на 2016 г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79280" y="1000080"/>
          <a:ext cx="8772480" cy="2857680"/>
        </p:xfrm>
        <a:graphic>
          <a:graphicData uri="http://schemas.openxmlformats.org/drawingml/2006/table">
            <a:tbl>
              <a:tblPr/>
              <a:tblGrid>
                <a:gridCol w="3456000"/>
                <a:gridCol w="2952720"/>
                <a:gridCol w="169920"/>
                <a:gridCol w="2193840"/>
              </a:tblGrid>
              <a:tr h="66708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2016 год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</a:tr>
              <a:tr h="6667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Доходы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54,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</a:tr>
              <a:tr h="7621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434,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</a:tr>
              <a:tr h="7621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80,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</a:tr>
            </a:tbl>
          </a:graphicData>
        </a:graphic>
      </p:graphicFrame>
      <p:sp>
        <p:nvSpPr>
          <p:cNvPr id="325" name="Прямоугольник 5"/>
          <p:cNvSpPr/>
          <p:nvPr/>
        </p:nvSpPr>
        <p:spPr>
          <a:xfrm>
            <a:off x="179280" y="402912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ми источниками финансирования дефицита бюджета поселения в 2016 году является изменение остатков на счетах по учёту средств бюдж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Прямоугольник 5"/>
          <p:cNvSpPr/>
          <p:nvPr/>
        </p:nvSpPr>
        <p:spPr>
          <a:xfrm>
            <a:off x="108000" y="260280"/>
            <a:ext cx="89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 по доходам за 2016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1042920" y="798480"/>
          <a:ext cx="7607520" cy="5289480"/>
        </p:xfrm>
        <a:graphic>
          <a:graphicData uri="http://schemas.openxmlformats.org/drawingml/2006/table">
            <a:tbl>
              <a:tblPr/>
              <a:tblGrid>
                <a:gridCol w="5189760"/>
                <a:gridCol w="1266840"/>
                <a:gridCol w="1150920"/>
              </a:tblGrid>
              <a:tr h="6271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дох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точненный план на 2016г., тыс.руб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2016 год, тыс.руб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69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69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3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3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2905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ОГ НА ИМУЩЕСТВО ФИЗИЧЕСКИХ ЛИ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6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МЕЛЬНЫЙ НАЛО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6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59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27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27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4352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27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27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512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399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3556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тации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99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99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650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бсидии бюджетам бюджетной системы Российской федерации (межбюджетные  трансферт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6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6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556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бвенции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6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6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146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032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709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595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Прямоугольник 3"/>
          <p:cNvGrpSpPr/>
          <p:nvPr/>
        </p:nvGrpSpPr>
        <p:grpSpPr>
          <a:xfrm>
            <a:off x="-128520" y="23760"/>
            <a:ext cx="9405720" cy="933480"/>
            <a:chOff x="-128520" y="23760"/>
            <a:chExt cx="9405720" cy="933480"/>
          </a:xfrm>
        </p:grpSpPr>
        <p:pic>
          <p:nvPicPr>
            <p:cNvPr id="329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-128520" y="23760"/>
              <a:ext cx="940572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112680" y="260280"/>
              <a:ext cx="892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е направления по доходам за  2016 г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1" name="Диаграмма 3" descr=""/>
          <p:cNvPicPr/>
          <p:nvPr/>
        </p:nvPicPr>
        <p:blipFill>
          <a:blip r:embed="rId2"/>
          <a:stretch/>
        </p:blipFill>
        <p:spPr>
          <a:xfrm>
            <a:off x="0" y="0"/>
            <a:ext cx="9040680" cy="6681960"/>
          </a:xfrm>
          <a:prstGeom prst="rect">
            <a:avLst/>
          </a:prstGeom>
          <a:ln w="0">
            <a:noFill/>
          </a:ln>
        </p:spPr>
      </p:pic>
      <p:pic>
        <p:nvPicPr>
          <p:cNvPr id="332" name="Прямая со стрелкой 3" descr=""/>
          <p:cNvPicPr/>
          <p:nvPr/>
        </p:nvPicPr>
        <p:blipFill>
          <a:blip r:embed="rId3"/>
          <a:stretch/>
        </p:blipFill>
        <p:spPr>
          <a:xfrm>
            <a:off x="4627440" y="4950000"/>
            <a:ext cx="49392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Прямоугольник 3"/>
          <p:cNvSpPr/>
          <p:nvPr/>
        </p:nvSpPr>
        <p:spPr>
          <a:xfrm>
            <a:off x="250920" y="352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 по расходам за  2016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92240" y="857160"/>
          <a:ext cx="8267400" cy="4313160"/>
        </p:xfrm>
        <a:graphic>
          <a:graphicData uri="http://schemas.openxmlformats.org/drawingml/2006/table">
            <a:tbl>
              <a:tblPr/>
              <a:tblGrid>
                <a:gridCol w="5316480"/>
                <a:gridCol w="431640"/>
                <a:gridCol w="358920"/>
                <a:gridCol w="288720"/>
                <a:gridCol w="936720"/>
                <a:gridCol w="934920"/>
              </a:tblGrid>
              <a:tr h="113976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Б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 на 2015г., тыс.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 2015 год, тыс.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5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3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3654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высшего должностного лица субъекта Российской Федерации и муниципальн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6238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6238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деятельности финансовых, налоговых и таможенных органов и органов финансового (финансово-бюджетного) надз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3664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ервные фо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изационная  и вневойсковая подготов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214200" y="214200"/>
          <a:ext cx="8245440" cy="4730760"/>
        </p:xfrm>
        <a:graphic>
          <a:graphicData uri="http://schemas.openxmlformats.org/drawingml/2006/table">
            <a:tbl>
              <a:tblPr/>
              <a:tblGrid>
                <a:gridCol w="4929480"/>
                <a:gridCol w="571320"/>
                <a:gridCol w="357120"/>
                <a:gridCol w="428760"/>
                <a:gridCol w="1023840"/>
                <a:gridCol w="934920"/>
              </a:tblGrid>
              <a:tr h="109692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 на 2015г.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 2015 год, тыс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5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8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альное  хозя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4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8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38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устро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365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37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дежная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, кинематограф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нсионное обеспе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рана семьи и дет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9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43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Прямоугольник 5"/>
          <p:cNvSpPr/>
          <p:nvPr/>
        </p:nvSpPr>
        <p:spPr>
          <a:xfrm>
            <a:off x="158760" y="1260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направления по расх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 2016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Диаграмма 3" descr=""/>
          <p:cNvPicPr/>
          <p:nvPr/>
        </p:nvPicPr>
        <p:blipFill>
          <a:blip r:embed="rId1"/>
          <a:stretch/>
        </p:blipFill>
        <p:spPr>
          <a:xfrm>
            <a:off x="371520" y="1052640"/>
            <a:ext cx="8772480" cy="49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нение бюджета  2016 года в разрезе функциональной классификации рас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Овал 3"/>
          <p:cNvSpPr/>
          <p:nvPr/>
        </p:nvSpPr>
        <p:spPr>
          <a:xfrm>
            <a:off x="1714680" y="1197000"/>
            <a:ext cx="6002280" cy="1314360"/>
          </a:xfrm>
          <a:prstGeom prst="ellipse">
            <a:avLst/>
          </a:prstGeom>
          <a:solidFill>
            <a:srgbClr val="35436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Общегосударственны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(содержание органа местного самоуправл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2933,9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Блок-схема: альтернативный процесс 4"/>
          <p:cNvSpPr/>
          <p:nvPr/>
        </p:nvSpPr>
        <p:spPr>
          <a:xfrm>
            <a:off x="142920" y="2538360"/>
            <a:ext cx="3044880" cy="1542960"/>
          </a:xfrm>
          <a:prstGeom prst="flowChartAlternateProcess">
            <a:avLst/>
          </a:prstGeom>
          <a:solidFill>
            <a:srgbClr val="c6b07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orbel"/>
              </a:rPr>
              <a:t>Функционирование высшего должностного лица субъекта Российской Федерации и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429,7 тыс. руб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Блок-схема: альтернативный процесс 7"/>
          <p:cNvSpPr/>
          <p:nvPr/>
        </p:nvSpPr>
        <p:spPr>
          <a:xfrm>
            <a:off x="5435640" y="2492280"/>
            <a:ext cx="2663640" cy="2202120"/>
          </a:xfrm>
          <a:prstGeom prst="flowChartAlternateProcess">
            <a:avLst/>
          </a:prstGeom>
          <a:solidFill>
            <a:srgbClr val="c6b07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orbel"/>
              </a:rPr>
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1380,2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Блок-схема: процесс 5"/>
          <p:cNvSpPr/>
          <p:nvPr/>
        </p:nvSpPr>
        <p:spPr>
          <a:xfrm>
            <a:off x="539640" y="4508640"/>
            <a:ext cx="2664000" cy="969840"/>
          </a:xfrm>
          <a:prstGeom prst="flowChartProcess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Глава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429,7 тыс. рубле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3" name="Прямая со стрелкой 6"/>
          <p:cNvCxnSpPr>
            <a:stCxn id="339" idx="3"/>
            <a:endCxn id="340" idx="0"/>
          </p:cNvCxnSpPr>
          <p:nvPr/>
        </p:nvCxnSpPr>
        <p:spPr>
          <a:xfrm flipH="1">
            <a:off x="1664640" y="2319480"/>
            <a:ext cx="929160" cy="219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4" name="Прямая со стрелкой 14"/>
          <p:cNvCxnSpPr>
            <a:stCxn id="339" idx="4"/>
            <a:endCxn id="341" idx="0"/>
          </p:cNvCxnSpPr>
          <p:nvPr/>
        </p:nvCxnSpPr>
        <p:spPr>
          <a:xfrm flipV="1">
            <a:off x="4716360" y="2491560"/>
            <a:ext cx="2052000" cy="19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5" name="Прямая со стрелкой 33"/>
          <p:cNvCxnSpPr/>
          <p:nvPr/>
        </p:nvCxnSpPr>
        <p:spPr>
          <a:xfrm>
            <a:off x="324000" y="4941360"/>
            <a:ext cx="1944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46" name="Прямая соединительная линия 35"/>
          <p:cNvSpPr/>
          <p:nvPr/>
        </p:nvSpPr>
        <p:spPr>
          <a:xfrm>
            <a:off x="324000" y="4149720"/>
            <a:ext cx="0" cy="7920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09:03:10Z</dcterms:created>
  <dc:creator>М.О. Косоротова</dc:creator>
  <dc:description/>
  <dc:language>en-US</dc:language>
  <cp:lastModifiedBy>АЛЕНА</cp:lastModifiedBy>
  <dcterms:modified xsi:type="dcterms:W3CDTF">2017-04-27T09:39:56Z</dcterms:modified>
  <cp:revision>33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